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61.xml" ContentType="application/vnd.openxmlformats-officedocument.theme+xml"/>
  <Override PartName="/ppt/theme/theme62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28.xml" ContentType="application/vnd.openxmlformats-officedocument.theme+xml"/>
  <Override PartName="/ppt/theme/theme70.xml" ContentType="application/vnd.openxmlformats-officedocument.theme+xml"/>
  <Override PartName="/ppt/theme/theme65.xml" ContentType="application/vnd.openxmlformats-officedocument.theme+xml"/>
  <Override PartName="/ppt/theme/theme29.xml" ContentType="application/vnd.openxmlformats-officedocument.theme+xml"/>
  <Override PartName="/ppt/theme/theme71.xml" ContentType="application/vnd.openxmlformats-officedocument.theme+xml"/>
  <Override PartName="/ppt/theme/theme66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79.xml" ContentType="application/vnd.openxmlformats-officedocument.theme+xml"/>
  <Override PartName="/ppt/theme/theme67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78.xml" ContentType="application/vnd.openxmlformats-officedocument.theme+xml"/>
  <Override PartName="/ppt/theme/theme77.xml" ContentType="application/vnd.openxmlformats-officedocument.theme+xml"/>
  <Override PartName="/ppt/theme/theme76.xml" ContentType="application/vnd.openxmlformats-officedocument.theme+xml"/>
  <Override PartName="/ppt/theme/theme7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69.xml" ContentType="application/vnd.openxmlformats-officedocument.theme+xml"/>
  <Override PartName="/ppt/theme/theme68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4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59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</p:sldMasterIdLst>
  <p:sldIdLst>
    <p:sldId id="256" r:id="rId86"/>
    <p:sldId id="257" r:id="rId87"/>
    <p:sldId id="258" r:id="rId88"/>
    <p:sldId id="259" r:id="rId89"/>
    <p:sldId id="260" r:id="rId90"/>
    <p:sldId id="261" r:id="rId91"/>
    <p:sldId id="262" r:id="rId92"/>
    <p:sldId id="263" r:id="rId93"/>
    <p:sldId id="264" r:id="rId94"/>
    <p:sldId id="265" r:id="rId95"/>
    <p:sldId id="266" r:id="rId96"/>
    <p:sldId id="267" r:id="rId97"/>
    <p:sldId id="268" r:id="rId98"/>
    <p:sldId id="269" r:id="rId99"/>
    <p:sldId id="270" r:id="rId100"/>
    <p:sldId id="271" r:id="rId101"/>
    <p:sldId id="272" r:id="rId102"/>
    <p:sldId id="273" r:id="rId103"/>
    <p:sldId id="274" r:id="rId104"/>
    <p:sldId id="275" r:id="rId105"/>
    <p:sldId id="276" r:id="rId106"/>
    <p:sldId id="277" r:id="rId107"/>
    <p:sldId id="278" r:id="rId108"/>
    <p:sldId id="279" r:id="rId109"/>
    <p:sldId id="280" r:id="rId110"/>
    <p:sldId id="281" r:id="rId111"/>
    <p:sldId id="282" r:id="rId112"/>
    <p:sldId id="283" r:id="rId113"/>
    <p:sldId id="284" r:id="rId114"/>
    <p:sldId id="285" r:id="rId115"/>
    <p:sldId id="286" r:id="rId116"/>
    <p:sldId id="287" r:id="rId117"/>
    <p:sldId id="288" r:id="rId118"/>
    <p:sldId id="289" r:id="rId119"/>
    <p:sldId id="290" r:id="rId120"/>
    <p:sldId id="291" r:id="rId121"/>
    <p:sldId id="292" r:id="rId122"/>
    <p:sldId id="293" r:id="rId123"/>
    <p:sldId id="294" r:id="rId124"/>
    <p:sldId id="295" r:id="rId125"/>
    <p:sldId id="296" r:id="rId126"/>
    <p:sldId id="297" r:id="rId127"/>
    <p:sldId id="298" r:id="rId128"/>
    <p:sldId id="299" r:id="rId129"/>
    <p:sldId id="300" r:id="rId130"/>
    <p:sldId id="301" r:id="rId131"/>
    <p:sldId id="302" r:id="rId132"/>
    <p:sldId id="303" r:id="rId133"/>
    <p:sldId id="304" r:id="rId134"/>
    <p:sldId id="305" r:id="rId135"/>
    <p:sldId id="306" r:id="rId136"/>
    <p:sldId id="307" r:id="rId137"/>
    <p:sldId id="308" r:id="rId138"/>
    <p:sldId id="309" r:id="rId139"/>
    <p:sldId id="310" r:id="rId140"/>
    <p:sldId id="311" r:id="rId141"/>
    <p:sldId id="312" r:id="rId142"/>
    <p:sldId id="313" r:id="rId143"/>
    <p:sldId id="314" r:id="rId144"/>
    <p:sldId id="315" r:id="rId145"/>
    <p:sldId id="316" r:id="rId146"/>
    <p:sldId id="317" r:id="rId147"/>
    <p:sldId id="318" r:id="rId148"/>
    <p:sldId id="319" r:id="rId149"/>
    <p:sldId id="320" r:id="rId150"/>
    <p:sldId id="321" r:id="rId151"/>
    <p:sldId id="322" r:id="rId152"/>
    <p:sldId id="323" r:id="rId153"/>
    <p:sldId id="324" r:id="rId154"/>
    <p:sldId id="325" r:id="rId155"/>
    <p:sldId id="326" r:id="rId156"/>
    <p:sldId id="327" r:id="rId157"/>
    <p:sldId id="328" r:id="rId158"/>
    <p:sldId id="329" r:id="rId159"/>
    <p:sldId id="330" r:id="rId160"/>
    <p:sldId id="331" r:id="rId161"/>
    <p:sldId id="332" r:id="rId162"/>
    <p:sldId id="333" r:id="rId163"/>
    <p:sldId id="334" r:id="rId164"/>
    <p:sldId id="335" r:id="rId165"/>
    <p:sldId id="336" r:id="rId166"/>
    <p:sldId id="337" r:id="rId167"/>
    <p:sldId id="338" r:id="rId168"/>
    <p:sldId id="339" r:id="rId169"/>
    <p:sldId id="340" r:id="rId170"/>
    <p:sldId id="341" r:id="rId171"/>
    <p:sldId id="342" r:id="rId172"/>
    <p:sldId id="343" r:id="rId173"/>
    <p:sldId id="344" r:id="rId174"/>
    <p:sldId id="345" r:id="rId175"/>
    <p:sldId id="346" r:id="rId176"/>
    <p:sldId id="347" r:id="rId1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" Target="slides/slide1.xml"/><Relationship Id="rId87" Type="http://schemas.openxmlformats.org/officeDocument/2006/relationships/slide" Target="slides/slide2.xml"/><Relationship Id="rId88" Type="http://schemas.openxmlformats.org/officeDocument/2006/relationships/slide" Target="slides/slide3.xml"/><Relationship Id="rId89" Type="http://schemas.openxmlformats.org/officeDocument/2006/relationships/slide" Target="slides/slide4.xml"/><Relationship Id="rId90" Type="http://schemas.openxmlformats.org/officeDocument/2006/relationships/slide" Target="slides/slide5.xml"/><Relationship Id="rId91" Type="http://schemas.openxmlformats.org/officeDocument/2006/relationships/slide" Target="slides/slide6.xml"/><Relationship Id="rId92" Type="http://schemas.openxmlformats.org/officeDocument/2006/relationships/slide" Target="slides/slide7.xml"/><Relationship Id="rId93" Type="http://schemas.openxmlformats.org/officeDocument/2006/relationships/slide" Target="slides/slide8.xml"/><Relationship Id="rId94" Type="http://schemas.openxmlformats.org/officeDocument/2006/relationships/slide" Target="slides/slide9.xml"/><Relationship Id="rId95" Type="http://schemas.openxmlformats.org/officeDocument/2006/relationships/slide" Target="slides/slide10.xml"/><Relationship Id="rId96" Type="http://schemas.openxmlformats.org/officeDocument/2006/relationships/slide" Target="slides/slide11.xml"/><Relationship Id="rId97" Type="http://schemas.openxmlformats.org/officeDocument/2006/relationships/slide" Target="slides/slide12.xml"/><Relationship Id="rId98" Type="http://schemas.openxmlformats.org/officeDocument/2006/relationships/slide" Target="slides/slide13.xml"/><Relationship Id="rId99" Type="http://schemas.openxmlformats.org/officeDocument/2006/relationships/slide" Target="slides/slide14.xml"/><Relationship Id="rId100" Type="http://schemas.openxmlformats.org/officeDocument/2006/relationships/slide" Target="slides/slide15.xml"/><Relationship Id="rId101" Type="http://schemas.openxmlformats.org/officeDocument/2006/relationships/slide" Target="slides/slide16.xml"/><Relationship Id="rId102" Type="http://schemas.openxmlformats.org/officeDocument/2006/relationships/slide" Target="slides/slide17.xml"/><Relationship Id="rId103" Type="http://schemas.openxmlformats.org/officeDocument/2006/relationships/slide" Target="slides/slide18.xml"/><Relationship Id="rId104" Type="http://schemas.openxmlformats.org/officeDocument/2006/relationships/slide" Target="slides/slide19.xml"/><Relationship Id="rId105" Type="http://schemas.openxmlformats.org/officeDocument/2006/relationships/slide" Target="slides/slide20.xml"/><Relationship Id="rId106" Type="http://schemas.openxmlformats.org/officeDocument/2006/relationships/slide" Target="slides/slide21.xml"/><Relationship Id="rId107" Type="http://schemas.openxmlformats.org/officeDocument/2006/relationships/slide" Target="slides/slide22.xml"/><Relationship Id="rId108" Type="http://schemas.openxmlformats.org/officeDocument/2006/relationships/slide" Target="slides/slide23.xml"/><Relationship Id="rId109" Type="http://schemas.openxmlformats.org/officeDocument/2006/relationships/slide" Target="slides/slide24.xml"/><Relationship Id="rId110" Type="http://schemas.openxmlformats.org/officeDocument/2006/relationships/slide" Target="slides/slide25.xml"/><Relationship Id="rId111" Type="http://schemas.openxmlformats.org/officeDocument/2006/relationships/slide" Target="slides/slide26.xml"/><Relationship Id="rId112" Type="http://schemas.openxmlformats.org/officeDocument/2006/relationships/slide" Target="slides/slide27.xml"/><Relationship Id="rId113" Type="http://schemas.openxmlformats.org/officeDocument/2006/relationships/slide" Target="slides/slide28.xml"/><Relationship Id="rId114" Type="http://schemas.openxmlformats.org/officeDocument/2006/relationships/slide" Target="slides/slide29.xml"/><Relationship Id="rId115" Type="http://schemas.openxmlformats.org/officeDocument/2006/relationships/slide" Target="slides/slide30.xml"/><Relationship Id="rId116" Type="http://schemas.openxmlformats.org/officeDocument/2006/relationships/slide" Target="slides/slide31.xml"/><Relationship Id="rId117" Type="http://schemas.openxmlformats.org/officeDocument/2006/relationships/slide" Target="slides/slide32.xml"/><Relationship Id="rId118" Type="http://schemas.openxmlformats.org/officeDocument/2006/relationships/slide" Target="slides/slide33.xml"/><Relationship Id="rId119" Type="http://schemas.openxmlformats.org/officeDocument/2006/relationships/slide" Target="slides/slide34.xml"/><Relationship Id="rId120" Type="http://schemas.openxmlformats.org/officeDocument/2006/relationships/slide" Target="slides/slide35.xml"/><Relationship Id="rId121" Type="http://schemas.openxmlformats.org/officeDocument/2006/relationships/slide" Target="slides/slide36.xml"/><Relationship Id="rId122" Type="http://schemas.openxmlformats.org/officeDocument/2006/relationships/slide" Target="slides/slide37.xml"/><Relationship Id="rId123" Type="http://schemas.openxmlformats.org/officeDocument/2006/relationships/slide" Target="slides/slide38.xml"/><Relationship Id="rId124" Type="http://schemas.openxmlformats.org/officeDocument/2006/relationships/slide" Target="slides/slide39.xml"/><Relationship Id="rId125" Type="http://schemas.openxmlformats.org/officeDocument/2006/relationships/slide" Target="slides/slide40.xml"/><Relationship Id="rId126" Type="http://schemas.openxmlformats.org/officeDocument/2006/relationships/slide" Target="slides/slide41.xml"/><Relationship Id="rId127" Type="http://schemas.openxmlformats.org/officeDocument/2006/relationships/slide" Target="slides/slide42.xml"/><Relationship Id="rId128" Type="http://schemas.openxmlformats.org/officeDocument/2006/relationships/slide" Target="slides/slide43.xml"/><Relationship Id="rId129" Type="http://schemas.openxmlformats.org/officeDocument/2006/relationships/slide" Target="slides/slide44.xml"/><Relationship Id="rId130" Type="http://schemas.openxmlformats.org/officeDocument/2006/relationships/slide" Target="slides/slide45.xml"/><Relationship Id="rId131" Type="http://schemas.openxmlformats.org/officeDocument/2006/relationships/slide" Target="slides/slide46.xml"/><Relationship Id="rId132" Type="http://schemas.openxmlformats.org/officeDocument/2006/relationships/slide" Target="slides/slide47.xml"/><Relationship Id="rId133" Type="http://schemas.openxmlformats.org/officeDocument/2006/relationships/slide" Target="slides/slide48.xml"/><Relationship Id="rId134" Type="http://schemas.openxmlformats.org/officeDocument/2006/relationships/slide" Target="slides/slide49.xml"/><Relationship Id="rId135" Type="http://schemas.openxmlformats.org/officeDocument/2006/relationships/slide" Target="slides/slide50.xml"/><Relationship Id="rId136" Type="http://schemas.openxmlformats.org/officeDocument/2006/relationships/slide" Target="slides/slide51.xml"/><Relationship Id="rId137" Type="http://schemas.openxmlformats.org/officeDocument/2006/relationships/slide" Target="slides/slide52.xml"/><Relationship Id="rId138" Type="http://schemas.openxmlformats.org/officeDocument/2006/relationships/slide" Target="slides/slide53.xml"/><Relationship Id="rId139" Type="http://schemas.openxmlformats.org/officeDocument/2006/relationships/slide" Target="slides/slide54.xml"/><Relationship Id="rId140" Type="http://schemas.openxmlformats.org/officeDocument/2006/relationships/slide" Target="slides/slide55.xml"/><Relationship Id="rId141" Type="http://schemas.openxmlformats.org/officeDocument/2006/relationships/slide" Target="slides/slide56.xml"/><Relationship Id="rId142" Type="http://schemas.openxmlformats.org/officeDocument/2006/relationships/slide" Target="slides/slide57.xml"/><Relationship Id="rId143" Type="http://schemas.openxmlformats.org/officeDocument/2006/relationships/slide" Target="slides/slide58.xml"/><Relationship Id="rId144" Type="http://schemas.openxmlformats.org/officeDocument/2006/relationships/slide" Target="slides/slide59.xml"/><Relationship Id="rId145" Type="http://schemas.openxmlformats.org/officeDocument/2006/relationships/slide" Target="slides/slide60.xml"/><Relationship Id="rId146" Type="http://schemas.openxmlformats.org/officeDocument/2006/relationships/slide" Target="slides/slide61.xml"/><Relationship Id="rId147" Type="http://schemas.openxmlformats.org/officeDocument/2006/relationships/slide" Target="slides/slide62.xml"/><Relationship Id="rId148" Type="http://schemas.openxmlformats.org/officeDocument/2006/relationships/slide" Target="slides/slide63.xml"/><Relationship Id="rId149" Type="http://schemas.openxmlformats.org/officeDocument/2006/relationships/slide" Target="slides/slide64.xml"/><Relationship Id="rId150" Type="http://schemas.openxmlformats.org/officeDocument/2006/relationships/slide" Target="slides/slide65.xml"/><Relationship Id="rId151" Type="http://schemas.openxmlformats.org/officeDocument/2006/relationships/slide" Target="slides/slide66.xml"/><Relationship Id="rId152" Type="http://schemas.openxmlformats.org/officeDocument/2006/relationships/slide" Target="slides/slide67.xml"/><Relationship Id="rId153" Type="http://schemas.openxmlformats.org/officeDocument/2006/relationships/slide" Target="slides/slide68.xml"/><Relationship Id="rId154" Type="http://schemas.openxmlformats.org/officeDocument/2006/relationships/slide" Target="slides/slide69.xml"/><Relationship Id="rId155" Type="http://schemas.openxmlformats.org/officeDocument/2006/relationships/slide" Target="slides/slide70.xml"/><Relationship Id="rId156" Type="http://schemas.openxmlformats.org/officeDocument/2006/relationships/slide" Target="slides/slide71.xml"/><Relationship Id="rId157" Type="http://schemas.openxmlformats.org/officeDocument/2006/relationships/slide" Target="slides/slide72.xml"/><Relationship Id="rId158" Type="http://schemas.openxmlformats.org/officeDocument/2006/relationships/slide" Target="slides/slide73.xml"/><Relationship Id="rId159" Type="http://schemas.openxmlformats.org/officeDocument/2006/relationships/slide" Target="slides/slide74.xml"/><Relationship Id="rId160" Type="http://schemas.openxmlformats.org/officeDocument/2006/relationships/slide" Target="slides/slide75.xml"/><Relationship Id="rId161" Type="http://schemas.openxmlformats.org/officeDocument/2006/relationships/slide" Target="slides/slide76.xml"/><Relationship Id="rId162" Type="http://schemas.openxmlformats.org/officeDocument/2006/relationships/slide" Target="slides/slide77.xml"/><Relationship Id="rId163" Type="http://schemas.openxmlformats.org/officeDocument/2006/relationships/slide" Target="slides/slide78.xml"/><Relationship Id="rId164" Type="http://schemas.openxmlformats.org/officeDocument/2006/relationships/slide" Target="slides/slide79.xml"/><Relationship Id="rId165" Type="http://schemas.openxmlformats.org/officeDocument/2006/relationships/slide" Target="slides/slide80.xml"/><Relationship Id="rId166" Type="http://schemas.openxmlformats.org/officeDocument/2006/relationships/slide" Target="slides/slide81.xml"/><Relationship Id="rId167" Type="http://schemas.openxmlformats.org/officeDocument/2006/relationships/slide" Target="slides/slide82.xml"/><Relationship Id="rId168" Type="http://schemas.openxmlformats.org/officeDocument/2006/relationships/slide" Target="slides/slide83.xml"/><Relationship Id="rId169" Type="http://schemas.openxmlformats.org/officeDocument/2006/relationships/slide" Target="slides/slide84.xml"/><Relationship Id="rId170" Type="http://schemas.openxmlformats.org/officeDocument/2006/relationships/slide" Target="slides/slide85.xml"/><Relationship Id="rId171" Type="http://schemas.openxmlformats.org/officeDocument/2006/relationships/slide" Target="slides/slide86.xml"/><Relationship Id="rId172" Type="http://schemas.openxmlformats.org/officeDocument/2006/relationships/slide" Target="slides/slide87.xml"/><Relationship Id="rId173" Type="http://schemas.openxmlformats.org/officeDocument/2006/relationships/slide" Target="slides/slide88.xml"/><Relationship Id="rId174" Type="http://schemas.openxmlformats.org/officeDocument/2006/relationships/slide" Target="slides/slide89.xml"/><Relationship Id="rId175" Type="http://schemas.openxmlformats.org/officeDocument/2006/relationships/slide" Target="slides/slide90.xml"/><Relationship Id="rId176" Type="http://schemas.openxmlformats.org/officeDocument/2006/relationships/slide" Target="slides/slide91.xml"/><Relationship Id="rId177" Type="http://schemas.openxmlformats.org/officeDocument/2006/relationships/slide" Target="slides/slide92.xml"/><Relationship Id="rId1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FEF9-8B20-4356-B217-6061379A96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5FB9-C62E-4DE4-B846-E27664C4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108B4-4180-4633-98B4-0F74DCF66759}" type="slidenum">
              <a:t>&lt;#&gt;</a:t>
            </a:fld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D71CDD6-7B3F-4745-BF41-B64AC11AEF46}" type="slidenum">
              <a:t>&lt;#&gt;</a:t>
            </a:fld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4BB09F-E54C-46E1-A97A-4A1E8A43A110}" type="slidenum">
              <a:t>&lt;#&gt;</a:t>
            </a:fld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34AB93-1FF4-4D57-8EE9-7081CF286419}" type="slidenum">
              <a:t>&lt;#&gt;</a:t>
            </a:fld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3C2531-48AE-4197-B599-1135D2F3E643}" type="slidenum">
              <a:t>&lt;#&gt;</a:t>
            </a:fld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189854-5C3B-4113-BC05-E5A331939A25}" type="slidenum">
              <a:t>&lt;#&gt;</a:t>
            </a:fld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DC0C72-4C9D-4D9F-8DB4-A8DCB33CCA0C}" type="slidenum">
              <a:t>&lt;#&gt;</a:t>
            </a:fld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B51338-C40E-4670-AFBC-4E8CD40E4043}" type="slidenum">
              <a:t>&lt;#&gt;</a:t>
            </a:fld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F35E17-72FF-4243-86E1-8D05C2A06B17}" type="slidenum">
              <a:t>&lt;#&gt;</a:t>
            </a:fld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F139E7-EAC4-403C-B21D-F5D53D604F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9A52-441B-47F2-AA86-B2A4813BE99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F9E8A-0BA6-4E00-B78F-421CFF3D82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3FC0D-D1E1-48C7-9402-50D3550C3E5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CC40F-595D-4910-95D4-091CA0F3C6C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B5E2-FEFE-4EAA-B740-C9FDD3636F7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6A4BF-772B-4A44-91AA-D21AC0A9B2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3351E-3EA1-4E80-8F41-63A03EFDBFD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4CBF-0018-4E65-8E92-EAA59BA645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9CDA61-E12F-4960-ACC0-729935923E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41AA-C6F4-47F9-B982-F4BCA0FF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DAB019-A572-409D-AF9D-95C4CE836DA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E0BC7C-F1BD-476F-B526-C77D662D04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414BF7-99D5-4545-A55D-22AF862869C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FA2CEB-09F4-43C4-9FBF-10B3E9642FA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E00624-4A9C-482A-89CF-0D236F2059C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BFFC4-A2B4-40E2-9CD7-673B113804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B59CB1-9632-4D49-A74C-7D18A0CF62C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E1D7F3-AF3D-49A2-9BDF-580C87798F5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9EB7F-4306-4D75-9478-009F569D5E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6B912-A3E6-4A3E-A6FA-C0234967E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A8DD-A3D5-4DB9-BA60-F0A8026A23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3CA5AB-4C32-435F-8E58-CF85E2925B5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C6771-9128-464E-AD84-BDDE38DEEFD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79D851-9D57-4708-A52B-779B8EF1DE7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838619-983A-40F8-818A-DE342E4A532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CA1D50-6D12-42BE-BD2C-B008D007FEA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7639AA-54DD-4101-BF99-E661DC52AD4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09315A-6561-447F-A81F-12D710BB54E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9C9470-D709-427E-8100-282ED438573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33667-6CD7-46B8-A7D0-429C34D7168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210EB-DC37-4B3D-8807-21D036CF2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5C9-AE44-4B58-8E3B-92F60688FD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6BD0B9-763F-4C4D-9756-72B2ECE3032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10E65B-1039-4478-8703-400DBA447B3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E96A5-6FDE-479C-B4C3-49C74FF60FE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5D090-3308-4AD3-A381-8ED310413E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E332B-2350-4A86-8D3A-921384BA665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D907A-9ADF-41C5-9633-09D3C70CB4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F4C59-D3DA-4AC2-A0DB-80944B2E982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CCA5A-A86A-4037-884C-A840FB67117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CB4C8-B0FE-49AF-AE85-47F93B0986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8AAE4-F183-4052-BBC6-3E9558D973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E772-1FEB-4A82-B9DA-5233C22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E0D03-9E2F-4CC2-8E17-CD54DB2DFC7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94296-4DB3-47FD-8D61-158E0DBE88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71FFB-1D8E-449A-AE12-96CD7C2C34D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687A-562A-433E-B90A-45DA7E7577D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F3B58-52CA-4DD2-B7BD-F69A6E06632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C30A36-A4CD-4882-A74B-117F8EB81BD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66C15E-C8AE-451D-9196-D284815F175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2430DC-09DA-4CF0-97E5-34C6FE598D1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2CE5F8-87BE-40C6-9831-96CE5B0F375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BF60A1-E200-4BC4-81E3-1854F3121B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5ED-2D33-4864-8CB5-C55B9584E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EFA8AA-76F6-4778-AF1F-B01E5BCAB69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D71B4-BAAA-4DEE-9A87-B75142C7D88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BE6BDE-6628-4CA7-89E7-7F09C73C93B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806D97-E0BA-474E-B402-91CDEFBA9C3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344437-E726-466C-8AF6-7603F5CE51A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4D592-0056-432F-92CA-E924700AE02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3D9170-9D1A-4E1D-BBCE-9485817D6AA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ABA8CC-52AA-415B-B42E-D138EBE1FEE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34211-3D84-4CA2-9884-536156CA37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358D91-2DD7-4F62-8673-1A93155121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F71-62A0-40DA-A723-19F079B7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EE071F-8FEC-4FCA-B548-EF573B77BAB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E1E661-D65F-43C8-B1ED-68F23C5A5C0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CBB551-0372-4D3A-8A6A-848DAA247C4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AEE473-86F7-4E90-94B8-CB3B599AA30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220A4-AC47-4FE4-84C1-095B98A677B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1FDBED-B336-4596-8BA9-379F8CEBD52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7F15A-4949-4624-8CA2-DF26C8ED8D8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5BF16D-0EE9-4DF0-97F4-2D61855E7CB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1C83F-8EC7-4ACB-AF57-5F506A2EC27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E522-7BD7-402E-9F20-CF9FE26694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454-5387-4577-B86A-360B31DA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43E77-EF37-439D-836E-A31015CF09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06BFD-3527-47EC-B04B-AFCA8B58D85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73D2F-19DD-4806-A995-86A428F12B2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50C8C-B67D-486D-AB0C-5CDD3F5BDA9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EE48-4296-480E-9DCE-157FA97D004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1FE89-96A8-4E4B-B55E-4A86C15527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215C2-F67B-41EA-A541-E1DCCC917FF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3BF4A-66E4-4792-8D95-428E363448A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68E8-07F8-4FBE-9A11-B55DF9B2505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29D4E-2B4C-4C4E-A677-1D1292B43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AED7-EFBF-49CC-85F6-9C578C1C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37F04-984C-4102-9F97-2FD248ACEB1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1EEE77-B3F5-4132-8A97-CEAAA3A87C5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41F27A-F90B-4942-BD84-9E92B333AA9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0B5811-21EB-4A11-A50A-501F73BDE09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F7F68-6E16-4A1C-ABAC-29DA2AFCDBC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CB9AE-40B0-420C-811E-178C4A3F386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807575-453B-4C4E-B945-547DBC7CCCA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65DED8-A574-4433-9C48-C1D55815A81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15C2F-7C15-4AAB-98A1-6C83892470F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C87A57-8EF4-462A-9DA5-98AB09C4B2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5E38-04E7-4F75-BBD2-11C2AFF7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008577-A780-4607-ACEF-E9A837771C4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76BEA1-0641-44D6-BAC7-4F7C44B082D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3EB839-C835-43B4-AA55-C33EE7DEC12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295202-BC1C-4F59-8B25-1E98A719049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C94A1B-0B75-48F0-8452-4528C82D9A9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633329-3B40-4B1A-93D1-85BC562F202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A346C2-61D3-49C4-A013-581C4A51DB2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B9D7CB-16FE-41D9-924F-13BF0CA16F1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75BF77-495C-48CD-B518-44683039E6F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865378-500F-454C-B6FC-D710202E7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C2E7-0700-45EB-B71A-BEC7A70A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A5D-3FAE-43D5-8AFB-5A91A571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4B32DD-D155-48A3-8291-58C7971784C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98B511-9CF6-47E3-96A6-AB3E066BDE1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5FA651-137D-45E8-B14A-8A506244573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14DE0-755C-4C7D-9CF6-F9DE070DCA9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09A81-4687-40B1-AF02-35C856E3D098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8513-4C10-4BFA-96B2-4E97E4214F7B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B70A5-737C-4110-8971-3AD5DA17C925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C9276-878F-4A15-A0D2-4A0F9C7BCB6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4B1B2-3EF8-430E-8937-46D9ACC08B8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75C2-9B80-4360-8B0A-17EB9E4C2C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AC1-5AF3-4B1D-94DA-DFEC2EFA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62578-D3C5-44D7-A3ED-E2736B5B40C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629E3-45CB-4723-A6B8-96BA6D7C0C15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3C800-139A-4426-A13D-007C3DBB1995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0B624-0046-4EA8-9A84-58EBFE5BE4C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7032B7-4FC2-4C45-ACA8-FC923564BCA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1D69F-E0DA-48EB-91A5-C4F68A5228D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C989C4-2B20-4937-A96D-4D555D3740A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201-787F-46CC-BCF0-957C319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9173B8-4CA2-4FF9-B2B4-820A897174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13B-DC68-4C6D-9749-A72E69E3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9A7F6D-A079-4D63-9D09-C843D91644A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11A3F0-C4B5-463F-965B-EBD6CACC95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AFD6EA-0DD6-49C9-9396-DB02B5670E8B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9312B0-1ED3-4FB7-89C2-43F91350FA5E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FCD2E-5A53-4347-9705-CC050F89156A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667A6-E798-47B7-AA20-B902F0D8A23D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78A0E0-51A3-4CB7-A9F5-79DB8C438E2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D5E243-EBB3-4D2A-8E25-7C72935CBDB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1B0E1-EB33-4EB4-BC43-A5D6EFFA998A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2E2DD-32CD-464A-9119-6BC67E54A5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2A8-182C-42F4-BEA8-56080BE1DB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1D31F7-BF18-49BB-B077-EFCA6EB2ECE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4CC564-A5C4-4299-B0C6-707E24070CF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973699-9740-4F30-B116-0EF26ABB482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D231C-804B-4E90-AA26-A2935A9F42E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03924-1197-4C09-802C-C309A22B2E5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08565D-45FE-4D3F-94B7-C39C33BCA0D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9E86E-A8FB-43F3-938F-5802DA63F72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475C04-9820-4E93-8304-32DDA0A7C9C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FAF5D4-AC60-4FAE-8EC8-2576BE35DCF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DFA27-B87D-4EA7-810B-C1F5460675A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21A34-5666-4520-BBEE-C800F91FCA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FC9DFFC-BF2B-48B1-96EC-E722D77761B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628139-F2A0-4F12-BF74-8DC6D76B1D0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096F45-D428-4D21-8342-99C1EF9544B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19431-219B-4FA2-91FA-FBCFD1F0E32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DF62-2852-4AD5-856C-CA82FA37BC1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A047C-4E12-4CC7-BF43-7A669FB48752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77905-396A-4F79-B11D-0DAB4C17ADB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838C2-C20B-4318-B262-3412345EF39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AFC51-56B1-44BD-94BF-7313259DF6C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CAD19-49A4-4B72-A39C-266563D4DE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6DEB9-28F1-4651-8E4B-D1E60A8C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1A526-3742-4EDA-A1C0-6DF5BB885B18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B8EED-EDF1-42BA-8DFD-F1AEF5FFCF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C4CED-9B2D-48A3-9F1B-6E8E5C69848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7E19-845C-411B-AD0F-45B7470138D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6F987-1481-4047-A3BA-E2F10ABD56F1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73686A-367D-4ABF-A6C8-7F8212806E3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F20B2-B944-4DE9-946F-2BF51636693C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F558A6-4808-4F30-A859-A08C93BCAE1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76490-E2C6-4CCB-AC06-9F79AE00A80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A4AC1B-7EA7-4762-8643-6299BCB6D4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511AF-F41E-46FD-9E98-CE063C46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8A3562-7D74-49A2-A823-CFE25164776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4C3FD4-29BE-4C33-BBE0-974AE565A63F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5129B7-CBD7-4EF1-BCFE-6EE4AD065A3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504066-7203-462E-AFD3-BC413708398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0DE4CB-D8B8-4696-968F-128C3D33704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838B03-D081-42D0-A8CC-9301CBE3C05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795724-DCA6-4092-BB97-FFA09626665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C9A3F-0530-4EB5-9EA1-6968B6B5391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38933-0619-43D9-B1DA-4417F3C0223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3D7C706-905C-488D-A090-0EB39A8664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A55FB-5B27-405A-803E-A3425C6E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D6A48-A3D1-4BDE-91A7-51AF90C7E0F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35993-DBA1-42CE-B505-6216563FE17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B17FC2-75DB-4FE9-9429-D9469C326F4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0F6E38-8F6F-47A4-A470-AF872C81EA6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9E98FD-48B1-4A13-8013-E9B506EEDA2E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387C5A-35FD-49E1-A0DB-DB2922ED919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F43B95-C054-4C24-9D4D-531D2003971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18DAAE-6FD9-4314-98D5-07E6EAF057E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59C10C-727F-4082-BEA6-DC24EFABAE7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32CF4-7FAB-4D26-B906-9055E0DBF7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CF63A-C053-4A54-8CD2-0A698897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F25E-A477-425C-BE78-D59D5B58657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AA6BE-7BCB-4E65-BB6C-B96266E2A21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FD4F3-5820-4FCB-B47C-B93493A0909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C21C4-7AE1-4B5F-90BB-E05BF749158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2DD1F-3D8F-4F9F-8F4F-166E7A48B75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26C91-4CDE-4A46-AE5C-B0C14E45D75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2520FB-C6A3-4F48-82BA-4C9437379E6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43A26-E025-4F71-9E51-B687625065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B8995-5824-455C-A3B0-9628BAA871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20E01A-3386-4B67-A00D-7BA841747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BC9D-60C9-49A7-A849-D30B18C3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5E059-124A-4217-806D-E4FFA8AF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2EBF27-1B13-4051-9E59-DDFA78C93BA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5E1C29-84FF-4807-9D8D-82F19E215D2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6B7163-A3A2-4539-856E-53C5703DE6A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C79E96-D2CF-415C-924B-14B035F0744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821FF4-D06C-4D6D-9BA7-74948558364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4AD240-2423-4E25-9FD2-036AF3840AC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C4CD9-B504-4E30-98C3-B6C809F51465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BA0D84-E608-4F81-913D-FA99427A5E1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E55A7-01C4-4F39-8B16-0471C2BBA4A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4E368F4-4CBD-466F-9884-E35F653307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B9708-7A9D-48B9-BD17-00716391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3900911-B293-441F-A614-B08C9FD2E6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3B7E45-12BE-4F7A-8783-05CD9459670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DE6BBA-5491-42F7-9E00-1F1A420319D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78E385-4E3C-4874-B44C-4DA859191EE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CA40AB-F785-406C-957B-863A7134CBF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43C163-A678-48F9-9363-0691D3DA5B07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17AC66-F2FE-4E88-A977-31BDDADDBBA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CCB2CA-E594-40F6-86D4-B87D7BF2560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CA6A6D-77C4-4866-9E71-D05DBC2F9D85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788A12-6502-4452-A035-B1DB546991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D08F2-033E-4E6E-BE28-9DAD7316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420601-4813-4DDE-8591-BBFDD7D24792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987392-01D6-47D3-BCDB-C860CDD8A32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8F92B9-3E0A-450A-91B0-E6ACE9A94EB5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15D301-B770-416C-8374-503409239C6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410DE6-FBFC-4F6C-ADB8-FE422BA62B05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3B762-E4EB-4D67-988A-1288A7D320C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C0E1F-8D56-4575-820C-0B04B907FA20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AFAC9-8265-4EFC-B138-5C7C4998C66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4759D-E6E4-4E9B-9CF8-06893DA6EC0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5F02D-B010-421B-B6BD-68B236A353A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A751-A98B-4543-9F2F-D8474919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3FA8A-5008-46B8-BA67-606BF904C2E3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D3B01-B1FC-49C0-9B11-625F16980384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0E68-FEBA-4BE3-B2FA-80CC4E656A2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29395E-FA2B-4372-A5B0-03FAB5FCCE5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A86B4-AB0F-4DB7-92FE-C584B964E37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258F6-E05B-45C3-ADD6-7908739A7FC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AC99E-07BD-40DA-AEF4-54DD3D6A4B70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8E645D-E2EA-4DFB-A682-6690A80FEF4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1299B9-DF9C-4DEE-8312-87BBB92735B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A302E5-6421-43A3-BF6C-B8BEF4F4439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33DD0-0C6A-4697-89F5-4CEA8EB7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FFFD0-23B9-4359-9A36-6A0B215E53CF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4DD957-983B-4149-A044-7CA4F3194AED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23F804-79D9-4964-A181-BA4DBD8D1ED6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4AFD16-3E5F-476C-A4D6-CE3DD4AD7822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E1AA25-6B44-4913-BE30-6AD7E943CDB5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70B2B-4606-4E3E-9264-0824B3C2110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4B705-B551-47CD-8E57-DA28D2F10EE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1058F2-D15A-419F-8284-E857433D441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5052E3-2CB6-4E04-A285-E48EE9755CD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23CB8-B517-430D-8F3B-58D73C0B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12CB-15B3-47DD-8088-25255B07A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FF2085-2F64-4A1C-90ED-601306AD7B08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BF62F9-AF3E-4A41-9CBB-ABFDBBE6B96C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289F7A-43BA-442B-A5FA-48FD5D79C8B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669076-3DA7-45AC-AFCA-4BDBE51A4C10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983682-937F-4725-A723-C1ADCDF98E92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8F9C88-6632-4E44-AAE0-C5583F92B12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C995AC-960C-433E-9185-EC8A3E9B5546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5A908D-7C5B-4E42-BFE7-0686C324993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D1F337-835F-4B11-895A-7FF495BB07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AC0F0-9C13-4488-B495-FBA87DD572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4D0C24-D79A-4A07-A9D2-BE3B75B32A3B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EAEC8D-D4AE-46CA-9BB0-702A846BF84C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E5B878-A524-46D4-9E37-0E74B9F2A036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48200-39C9-45DD-994A-378468C687C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B63D2-36A1-4BBB-81D4-D4867257FF9C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42BA2-8FC6-4F1B-9FA5-57DDD49BD5F1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DF21D-78F8-49C4-9B7D-C5986770FBF5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EA52F-C6ED-4D6E-B8A6-2466B8216D1F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68289-E9FA-43A9-B877-BE649E413BF7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25FD3-F5C2-4689-9CE6-B5F5D7AEF5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674F0-ECEA-4767-8203-52F5FE7E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980BE-B367-4B08-815A-4FE81019EDD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17C5C-D1BD-4CBF-9AAC-ECAF1ACB0F1F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9374D-62A4-4632-8D8E-B44D6831ABF6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C1F44-E2B8-46F3-AF3A-57E2037D72BA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06A50-D16D-4A48-8417-F67E840B8256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327A0A7-0E34-448A-AFCD-0F6CECA0DD52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B1D260-EACA-4F78-B486-66D36B6D5F7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FBACEC-7187-4E7D-A09C-2A51C9178E68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A6D5D5-E1F5-48DB-8ACA-4AE01B3C1178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786071-D38C-483E-AFDB-5987054F70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A52EC9-6EE6-4336-96E9-D3C6BA24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737012-865C-42F0-A6E7-71556AC0F07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75D9788-9CE1-4564-B18F-5AF6D3FD968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31AC7B-2A11-4BFD-81FA-2B43CEB71B0E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CD493AB-C486-4D8A-A054-3908E8E4DBF5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19D2F1-EFDC-4348-8F65-EDAAA9DDE391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6DB505-EDE7-407F-BB43-859F4C609E3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DE77B1-3F60-438B-B99B-5AA68DF4B69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1FE309-2182-46BE-B534-20FE455A47DE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3CA372-82D4-4232-A4B4-918632A7B33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5B5EB3-ED37-40E7-80E0-9E02BBE1F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87E84-975F-43D8-9952-C71C3145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56CA93-A9A6-4EE6-92EB-CF4125D3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36DC0C-3284-44EA-A8C7-6FD8AD63201F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3ECE57-CB7B-4E1D-9A39-EA7A48A8820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D872C1-EC5A-4E6F-BE2B-FDEC7A343B37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1031FF-24E9-4175-802E-781F47933F8F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9D833D-06DC-4BD9-B35A-BC2332C91F38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576128-1668-461B-8AC8-F22ED56CACBC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ACFDC4-F23B-4458-97DD-2C0FBC65622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080963-3FBC-470C-A05E-004889B232F6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68D9E8-87CC-4B35-A07B-F1F2B46D5551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FAF9A-598A-4515-A5A3-9ED8609C4D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4074B2-F75A-4C16-9A9C-7781F9BFA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9A38A-867F-404E-8361-49278637B3CF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636CEA-5DB4-486B-BF40-903399F65613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4977A-51DF-46B4-80FA-ECE304C25BED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F5AA6-C90D-4879-8162-434575C80FB5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7CBFD7-C18F-4087-B5B4-E031F682E068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D207B-E824-4805-87B6-19D5592EAAF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9432D-DCFF-4AE4-9F6C-153FEC9BDCD6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CFC68-DFAD-49A1-ADDE-DDAC11794F31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1D8F8-C4C6-4B14-845D-D106C51937AA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8C283-1D8A-489C-B33D-DE4CCF0450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938A02-AE44-4A67-84CF-294DF49C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9CD43-A2BE-4805-8704-DADF330B9E01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3A1B9B-8624-4D7B-97EB-4938D2082C1C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1AB28BE-5240-4A54-8254-7E8ED13B4571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999F61-0CC6-4197-AB0B-6B1BE42A21C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CD84D9B-98A0-454A-A8A7-EF66D7191FA9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3906F5-29A8-4C1C-A9C6-3D01C0B1E579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8F88FE-7671-4B75-801E-B3D73E3A8BEA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7F88B3-4B23-40FD-BF05-B6DC29AF6B6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7CD88EA-4AC6-4D41-9185-3AC5522E3BA9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A14D35-4DDC-437D-88FD-16FAFED917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22FA4F-AF59-4B2F-A404-A31734AF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48417E-B906-4956-8A95-1378ED3B20F4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0C0CF8B-8324-4442-8097-A5AC22BBF260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F0296F-429F-4A2B-B026-7E2B66D88B5A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B5F69E-660B-4498-9D9C-EC34DC56005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F674F7-D89E-492D-AED9-9B593A361A01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741C49-283B-4E55-816A-56FD0B746B1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C6E27D-9D8C-4810-9BBE-55DCFE459CA4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7C9C71-E0CA-49BD-844D-18FB9C1E9F4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0063F5-BFAA-482F-A90E-2BF2E94AC0C2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8F4B4A-E095-473D-923B-FC0FF43DE3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CB6891-4271-4903-9186-1B5874AF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03D64D-D518-48FB-9B67-3DF6E494BB40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773DB7-6295-4A22-8AD7-6E7AD5C1765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472CE5-B63D-4669-9F50-E6C1799938B9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87E179-D540-4728-9A3F-55281BA52317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6833CF-5DB9-487F-806A-82986437A34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4DB5BA-66B2-4702-8882-1CB12AB6BAE7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FCA9F-824C-4EB0-870B-AB3F85D9D372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8F554-88AB-49F4-BF2B-080869F06028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9C038-54F0-463E-A574-854B18945134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005C7-119C-4E11-9668-CA10DC4D0B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9422D9-48C2-4748-9FD5-6E25B76D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B7EB4-D56D-4EB1-8D4A-9208131077C8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3E178A-4AB1-4F07-83A6-11728F9E3B97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79869A-0F89-4708-9D88-0F1D14C5D6D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E1F1D-EFC5-4658-9DAD-68C9B8539018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C1B80E-BFF4-4531-A8B8-2B5A646E7F5F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7C9E89-8FC6-446E-ADF0-C329C67598B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0118D0-4C32-4598-8640-667A90D3B4AF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0F2B95C-9981-4F68-A860-7A2995F97A9C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C94F92-8C40-466E-B6A1-CAC2BD4231A3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69C966-5BE6-42F9-BBE6-6848B466EE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DEC2A6-9CDA-41B0-81EC-33D7ED02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59F800-C6C1-472B-96E6-9BB28B580E19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4B234C-A516-4E1F-AC55-7784D607C041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117FCC-A38D-4A7B-8897-4653CDBC257B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C0B0E5-62A2-43DC-B848-A5E674D4DFE0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56793E3-4158-4209-B50B-12DE54C4197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4D22BF2-2607-4E2E-A92D-B64228A81BB0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09B458B-E770-4A4D-B62A-07680FAFA948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02A98AD-D884-4768-80A7-60152473DC92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471F30-45D7-4895-A52D-5D3E531BD1A7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406F04-6620-429F-9D2B-C8DF4E8122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972C6-72E5-494D-82C3-4ABDE3B1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BE4431-38D7-4041-B763-090CBEF7763E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2FA4EF-D191-4F5F-AB7A-123D6B0FE89A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A900DC1-CDC9-4C83-8D56-252CF25ADC78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F52314-1E5A-42D1-B910-9E4BFCEF848A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BA197F-9519-49F8-8AED-CB00D3329A9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961594-E027-4381-9213-11539C636E50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CF00AF-8CDE-4939-AE56-139257E2DE8B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FB1031-4FFC-44E3-8366-743A102A19C7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389320-E2CB-4BBF-B29E-158E66779565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F7AE5C-D590-447F-A9A2-343F82858E7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0445BD-3927-4F26-9C6D-3FBDEA93D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9F65D2-0DDC-4FC4-8553-6F3B66A3972B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D280-E7B5-4FA2-B97B-F49912A82B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6AC9F-4674-4093-96FC-040CA89BAD12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01B266-0BC1-41E1-8828-2DEFBE58417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3A1DA-0CE4-41B5-B6F9-ED040D8DECE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B8B865-503B-47A8-83B3-B3CD6A23905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7FD1CA-3E40-4F19-9102-F4872B2F4D4A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88F47-BF40-427C-8A6B-9DF124856E5E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E37A05-9467-4C3D-A75F-DE7C59488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17316-F285-4701-80B5-F50A6E42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63BC1-1DCC-4679-A56D-5235B5A7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2E0023-71C8-46E9-8802-884D2C26A47F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E5839A-92A2-4D63-B3EA-55325F501C25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9DA477-74F5-42B6-9C0D-C14BE7F105A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C7FC93-240F-4C66-A374-C618B8A20AF0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058FA8-A1D3-4588-955F-74A6200B5F84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E1FD978-BA69-48B0-BF76-96513B4D5AB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7610B9-9687-45BC-882E-C3A43E27686E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37F00F-96A9-450F-A486-53ADF9DC0A8D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22E0697-7F77-4C89-9CBB-62B8EFE0C60D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8208C9-7DF6-4E81-83B8-64B5D02BEC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08068-8AB7-4D56-BB5A-394FA289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7477D8C-117A-4200-AA0A-770EFA7B3E3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3C53392-958F-4B04-BCCA-2D3198DC3056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57DE2EE-7C99-4BC6-B556-616C8349418B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02676A-78F1-4D0C-A039-5B65F6E7F3E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E4747A6-F717-4EDB-906B-E559C35902BA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1138B6-B1A5-42E0-ABDE-3958B7F8FA3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8C99D0-75C2-40CD-8AC3-1A23165581CA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4E8BA3-6B67-4447-9363-F8135C7039D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EAEB3E-9AEB-4973-B67E-C9E2D5B969C5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BFF150B-A652-4281-866B-26824764566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02B3-1A8D-4829-B19D-0336668A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CD58E6-58F7-4617-83E1-B6863AA9588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6BEFCA9-974B-4B2E-AE56-5315FA2E8128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408DBB-CB65-4823-A596-4B87A373462F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B5F2B2-41B0-4074-BC2B-87C78F8CA697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FB4995-13D3-4DD4-A62C-E6FA8A81C8D1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80223E-506D-4153-A78B-39CAF6F4126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80A093-615E-4113-9CE0-628A03BFBDB3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FCF153-4514-4C48-BFB6-F5323C90712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675DF7-FAFC-4581-9749-512584D75A48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87635F-34A2-4A75-A25E-BD7F4B2D73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FF2D-BC50-4A0A-BEDA-7FBAEB67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37D92-DB96-4B39-B28D-F1C91AE3DC3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079FF-57A5-462A-8C6A-17A369D4567E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A1083-7F03-45CD-94CC-6A6CC4015A8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161732-9AB7-41E6-8476-0D434B86B183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C0FF5-53DC-412D-9FB7-7732BC1C40F5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90FEB8-A6EE-4FD3-BAA3-F6DF289D7FB3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75527-75DE-4D13-BB4F-AEF33DBB0036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D1AC6-B578-420C-8720-E5A0DD3D1030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FA24B-FD66-454C-ADF5-A7E6EF77102A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F2A64F-919E-4BC5-856B-4269E5DE771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4150-5F5B-428D-A6BA-8660A7F1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8FAB5-3AD0-4889-B655-87D60FAB92F4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B6803F4-1E69-4F6A-AEC3-90279FE26240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0E7BF8-D703-43B1-953B-F3AA0128F41F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95FF09-B3CD-4225-90D3-34B299AAD88F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432775-F936-4316-85BA-30B40BED2832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4793B1A-4B21-4703-9C1F-F655A40E15B8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3FBE015-EF4F-4683-AFBF-05EFDDBC7577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515B64-A85D-4EEB-BF2D-3E85D5B4339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34BE506-D599-408B-8FA7-4071556D7A7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EA4BCFF-1F49-4ADF-B278-D2C4D57363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70130-3A30-4C06-85DB-AC1DE9B0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0EF97A7-F3CC-418A-81A6-DE6C50C070D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5B65EA-F253-4463-9E79-15E0224F3720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52A381A-3D6F-4C3F-AAB6-ED0335D95216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8F0982D-D01A-465C-8929-42F2E899957E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1B5FB0D-FB19-434A-BCF0-BFDCC1621CC7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419303-C690-4924-A396-91EEC75542D9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DC258D-A521-4750-B96F-67B0610861F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77727B8-EC96-4548-8BD2-C2225EBB083F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767EE80-7DF8-4F20-8916-67ACE156206E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FD9F02C-E7F7-4B59-896C-1BE386585AB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4917-2E1C-4D51-877E-7A4C08A2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A793A3-037F-47AA-8C0A-1040CDF0A461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D51C04-3200-4DA6-8315-6472D3DBCD54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7E94EAF-CCB5-474D-AD4D-09A4BAE07DDF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834E94-D18E-4204-A1C1-F54FCD2CA260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3EA287-934E-44DB-8D07-DF0C3B1F1A21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9937DA-E0E2-4213-8378-157AC6503C2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AE427-4C2F-40EF-A8B5-B70FF2AEF49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000746-7227-4FBC-A1FC-1A6E66BF9BA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246DD-DD29-4608-8B9C-43F17B1C72E5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8F70C-03F4-4565-9CD3-394568B3CE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CF084-5DCC-4789-8DCD-EFCB53D0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3F86C-DB5D-421E-B002-5566D273FC9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367A1C-208B-47EB-BD61-A312A76DEC38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1B54D-38C0-4734-934C-019A5AA5B4A0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91C94B-41F3-4F09-ACB9-AB8E4CC13135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27829-2A86-4F0B-9DC3-F3D645B06534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A250B7-E385-47BE-8BE5-4E0DE95022A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A06C8-3014-4100-9F84-E620EAC9A529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7F5F72B-CE71-49C8-B0D3-184643A7FF4F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2AFDEB-FB39-42FB-860A-396F4B6934AE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1DC06C-5017-4074-92B2-EEF3AD827DD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C20D8-84B2-41EA-8424-050863A0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FE016F6-20CA-4B6F-B4BB-5DC30DAD6DAA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EE284E-F1CB-4512-93BB-079E32D12142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521F9E-4BBB-4B77-933D-502009FDF72F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AEA992-E948-46E7-966E-FC8FCB145DFB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2B20B6-AA6E-4326-B826-65D80E9847C6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0D2DCD5-BE1B-46B6-AEE0-B7C17DA15DE7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DCE0736-D770-4779-B893-048EEF376433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F5001E-FC3C-4A1F-84DF-37F39D8F2C5A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9B88A2-1EDC-40BA-B5BE-3AA2C746ACCD}" type="slidenum">
              <a:t>&lt;#&gt;</a:t>
            </a:fld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85AD9A0-7CA3-405E-B6C3-0766D3A49D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1267-D135-460F-B91A-F0EA3935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FD3B97-0DA8-4B33-BE18-0765B883E46A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2B7B24A-2E63-492A-9949-AF6B31A1A1E4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9794F0-5002-4F49-966B-7F437D6FFDE2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F9314FD-2B62-44D1-BDC7-F3D34A327A5F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C2B1143-0845-4D32-A8BA-38A06081764A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E7BF6F-BBE0-48B7-ABC9-BAFDF1244E44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82C4C3F-99B2-4AED-80C9-D9B1F1C8C3A0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8037023-1E75-4AD4-BAFA-822909957222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80EB5E-8720-4B38-8A69-76F4A59B8443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65CB66-24F9-4915-95C9-CED55A763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98EC-C6C8-4423-9DDB-D6705058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4979-CD91-4BE7-AAC6-7A4176A245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AB1D986-F676-47E6-BF3A-AA3AB64E2D7B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38E7B-AFD8-4B3C-BD75-EFBAB9388D4D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053D7-BB3B-4E8C-9268-753166425A48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13232-3C97-4347-B6AF-2F484BD3064C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9700D-98B0-4FBD-BF15-9E798F2A0FCA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60915D-A169-4F53-BBC8-D01B6C41AB97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803F07-67C4-48FC-A856-C3D8850B143E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B9F556-E1D5-49B4-8C5B-4C6EC7FD572B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F82DC3-DDAA-4813-8EF0-EC30E94DA324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916C8-18D1-42F1-AF4A-1916C7F7848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636386-2C01-49A1-9E6B-7880C7EF71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1AEE58-4944-498F-9758-4620EC36EF5B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8EED8-0A4C-4B75-8306-B56656935288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B39926-8B0A-46F4-BF62-6FCCB05DD697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2B4B5-8829-45D6-B8B0-0A4947A1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8C8979-3D32-469A-BE1B-9ADAEED2BCEB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216421B-F51E-4F23-8F75-AD5777300518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A75037-893C-49D2-AB52-0CD8CD48D5A0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9C70CBA-79F1-42A2-B5BD-EA8D3A6404FE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A3C4926-6BC7-4F1B-9242-B6BE2E3E459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0A70C9-FEA3-4073-8B73-875EF562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F62404-EEF7-486E-AE8E-A517A5DE6DD3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73B5CF4-ED29-412E-A223-10A382E7A0B6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72C78F-93DD-4957-8AAB-001348D7A08F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83D0492-ABD5-4158-B3EF-441174254E95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8ECED7E-35ED-486E-B177-7DDA2C7F22CF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00AB84-08C1-4354-9946-D5B41193A710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FFF1CF-A8AB-4994-B805-1E2DB65568D8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04DDF68-A45E-4809-B1BA-33387203EC5F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1A7B6A6-5401-45B4-845D-A75A7CC5DA5A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0A68C20-7D6F-49BD-85F7-A75089939C6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A707A-4C41-4A41-8B3F-ABCC8497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D8D330-A72C-414D-AD6A-14B06577F304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8B30CC1-DADC-4741-BC80-8B0E861DC0A3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B8847E-DB0E-4DB1-9EFB-72A5D2263CEE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E3C2CAF-AE17-43FB-8BDC-B8F3333C6EB7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C389846-ACAC-4A19-B09B-2CE14CF9F534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91E68B-1D93-41AD-92FA-52ACB9681268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AD9E0A-3E98-4149-A964-C38F2A847A41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1137F5-61DD-45F5-B722-FE6E359306A4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AE11DA1-4AC4-48AC-B265-532DECEBE4B1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FA4670-827F-4F3B-A234-4772CD58E4F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96CA46-DBD7-4638-9C82-8837AA6B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76F871-F09C-4EE8-A388-CA7DBF68C2E6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2CDE64-AB84-478C-AACB-D9006EAB8CBE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A0066-160E-4C1A-8BF4-439A8F789319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CABBE-B7C5-4E22-BAEC-697E18FE75C9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53A618-2D8E-4C4F-942F-6D821AB5D355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C9EA9-9730-4709-B1E6-6C7C602DA13B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E82A5-CFB9-42DE-A263-288E65D14E3F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48E4F9-F0FE-4AD8-9B69-88ACA94895BC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7E86D0-88A9-45EA-9450-5936EDF82D4F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AFD96F-72A3-4024-929D-E854C55C77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71EF1-AB2A-4A80-BA41-313F989C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9DA4EA-6399-45AC-AAB1-1D09F6E2C781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1FE0EC-3D65-40F5-B7A7-B46395CAB540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A635BB-A998-4AE8-B0A0-1930CC0515B2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A26196E-78DD-4E29-9C02-BA68CCB346F7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48B333A-6C08-4270-AB93-6FE5EAF91144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41F63C9-7ECD-4895-B16C-716BF00EB654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E2BEFEC-F87B-445D-9C7C-0773752255A8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93305C3-B86F-41B8-B5C2-3C84601F457C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8C8362C-42B3-4F4D-A240-15CD490CC1F3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7D3BA3-06C8-48F4-9361-0423BF9D242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A5BF7-15F4-4523-A02D-A012029F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81A051D-0B95-4032-9063-9326350D542B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B6F7CA-85A0-48BB-A088-853235540383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5D8522-08CD-47A4-BB11-C0FECE603946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2CEDD44-31B6-4728-8CBD-95D5F2DF06C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6DE2C26-42BA-44B4-8CD6-878EAFBAB402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3B16EA8-940D-4A3E-8070-543CB41BBBAC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6DAA6DA-D586-47D0-8741-140057C4AA9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F877087-72F3-4D69-8659-009B74A74199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ED54738-0EE8-48BA-BCCB-4A2770E984F9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66E9A0F-C5C7-4630-9248-6124BF75673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BD4EB2-EAD7-4EF0-A97D-32FDDDA4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815DE82-E38D-449A-A0AD-530905ECDB90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01416E4-C608-4BE9-A7E8-C9765FAB8DE8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0AC1DD1-7655-4B13-B577-CE8E777C6D7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6352495-07DE-42D8-AAA6-7C938C466DF4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15852DE-E1C4-43AA-85F5-100A2B66745E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F59E8A-0DA9-4BFF-9C40-0699DF7B840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AA0348-E59F-4615-9AAD-5104134560EB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42CE3-763B-4339-B6A0-7606E9AE3A6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F17C7-02AD-4472-9F25-D584D4BAAF33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AC37D-F183-4EE6-9157-6662B0A272F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B788D9-CA53-4AC9-AFCC-1987A954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AA7AD-DB18-458C-AA08-4A658089BB2C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84BE1B-2F2B-4EEF-8B37-8B357793E39C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831F01-0FDB-4376-BAFA-C002511D8506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99CEB-AE26-45F0-BE21-A9B7EC190471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0EA85-7046-4157-824F-DB8A50C60E1F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FCBC8A-E9CE-45F5-B0B5-6E115D51B6CF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ADFFE-56E2-49B6-87B5-5704FEAC0DBE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328F7D6-A752-40E3-8AE5-EC7A49F9A47D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A3C855-2B72-408B-B433-D1A241307FC4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B941A1-4983-4369-8E62-13E2694CB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0379-FB3E-417A-9B73-661805D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204313-86D1-4A5A-889E-F9E37792A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2183058-FEAC-4F39-A140-8D4F1B5119CF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F00EE5-07E7-49B0-A072-30422018C1AA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C4A542-8C0E-4626-8D43-E5F1150BEFB3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F2B3ED8-5666-4C89-A003-16A40AE0AB5E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7729D32-2151-4A43-AAFE-1D61C3604212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CD88997-9D92-4E17-8F3F-0086E78426E3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3459C2A-6FE1-48CB-9367-29DA9DDCBDF9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6A0F91-08E6-455A-AA3C-4E54417F2EF6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5D3F0E8-1042-4F91-8F24-228643B4E376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B28BCFA-A629-4ACF-9F85-07B64EC427B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992AA-1DF1-471B-A58D-8D5DA60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4CE05751-A939-4FCD-B223-6FAEDC1D8BCF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28E4466-0FAE-4937-B5F0-1A24F9F6D4FA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74D8DE0-74F7-4580-888F-AE2114618692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385751-D7C8-43EB-91E2-EBDAD07DE927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05E3E6E-E2B6-49FA-A4E6-0B6B413C1E9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0D63734-4672-4F92-AE47-8F27423E32CD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5121B058-B743-49F2-A633-988D908C9CBB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223C1E77-5664-4394-936F-3ECB73C2025D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16C852E-6585-4026-8E3D-64DF6A73389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F9C7C01A-32F1-4997-AA29-35019F802EE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F91F93-4336-4D37-BD9B-9CCA91426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55720BE-6335-419A-BD50-14F82FDCAA5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8C977-A6E3-4664-A4E1-4B7020A57C86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4561C-11C0-46EA-A5BB-4135A41CE452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50073D-AD97-4068-90C8-9B7DAB895021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E1B9D-1498-4A6E-BB20-5DFAADD6DC4C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DDE6E-3B8B-478F-8064-92BA54CF960F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4FF442-2569-47CF-8FDE-5E9135C6EE9D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E9C7E-DE2F-4287-9B69-45BB3EFCB74C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135DD-80CD-48BD-95CD-0AEF295F07AE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04180-EE20-4A7C-86BF-5A2D92D2C17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2A63E0-5F89-401C-B6D7-5C5822C953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23FF23-8DA3-43F6-BC44-5264C6FD188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4E1A2A-D80E-46E1-9212-65A6CAD5C09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E8DCBF-A957-482E-8DF8-87FE56C6E256}" type="slidenum">
              <a:t>&lt;#&gt;</a:t>
            </a:fld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EF3071-FB74-4D0B-ABB2-9B7D47E60D22}" type="slidenum">
              <a:t>&lt;#&gt;</a:t>
            </a:fld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43FC727-0C3F-4009-9FF0-A1B103B36347}" type="slidenum">
              <a:t>&lt;#&gt;</a:t>
            </a:fld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8B697E2-92B0-4C80-A81C-A4FB332932E6}" type="slidenum">
              <a:t>&lt;#&gt;</a:t>
            </a:fld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7F80B67-6EE7-4353-9D7F-1B11C1AF0E3A}" type="slidenum">
              <a:t>&lt;#&gt;</a:t>
            </a:fld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F8435FC-53D9-464C-8F88-BDF33B501EA9}" type="slidenum">
              <a:t>&lt;#&gt;</a:t>
            </a:fld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BE8DD4-94B8-492A-97FB-B72B1DF01C9D}" type="slidenum">
              <a:t>&lt;#&gt;</a:t>
            </a:fld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FDD8FF8-55BE-4899-8547-383B80AE58C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C59BD-AE55-40D6-BB1C-2D53786C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C289ECE-F1AA-4E80-BECD-E06CCBCEFAAE}" type="slidenum">
              <a:t>&lt;#&gt;</a:t>
            </a:fld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1253E06-C242-428D-8B86-88FEC1C6165C}" type="slidenum">
              <a:t>&lt;#&gt;</a:t>
            </a:fld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1410328-9DAE-4DFD-A19C-AA67BF3210EE}" type="slidenum">
              <a:t>&lt;#&gt;</a:t>
            </a:fld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19EFCA9-5734-4590-9718-F33E76B47DCA}" type="slidenum">
              <a:t>&lt;#&gt;</a:t>
            </a:fld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F13CF86-E509-4310-9FEB-A895F57330A0}" type="slidenum">
              <a:t>&lt;#&gt;</a:t>
            </a:fld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FF3882-BAEE-45E5-B52D-D48B0DA2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CFB5AEE3-F11B-4038-8A95-EFE3C4B941FD}" type="slidenum">
              <a:t>&lt;#&gt;</a:t>
            </a:fld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DC1CAE48-A117-4B66-8EF9-F29CC7961EA5}" type="slidenum">
              <a:t>&lt;#&gt;</a:t>
            </a:fld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4214C67-8EBB-4755-AD16-E9C8991A99C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29B7A-4919-460B-9BD8-0836DC1E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5230FCF-FDD3-4CF3-BAE9-EB419D5FE742}" type="slidenum">
              <a:t>&lt;#&gt;</a:t>
            </a:fld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5EE84D98-A7A8-43EF-BCA6-C63945CBE9DA}" type="slidenum">
              <a:t>&lt;#&gt;</a:t>
            </a:fld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282FACEA-9B77-46E5-9A91-66BEFD54A915}" type="slidenum">
              <a:t>&lt;#&gt;</a:t>
            </a:fld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7826DD-8BBA-4A64-B793-0B360338E9CD}" type="slidenum">
              <a:t>&lt;#&gt;</a:t>
            </a:fld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5798C61-901F-4868-A4F7-96FD956B9534}" type="slidenum">
              <a:t>&lt;#&gt;</a:t>
            </a:fld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61C19E96-8E2A-4717-98A8-FA7ED7ADDCAD}" type="slidenum">
              <a:t>&lt;#&gt;</a:t>
            </a:fld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33256212-3321-4A96-B0DA-3EC8D9704D07}" type="slidenum">
              <a:t>&lt;#&gt;</a:t>
            </a:fld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EC5CF68A-B40B-4A53-B566-67348467E49D}" type="slidenum">
              <a:t>&lt;#&gt;</a:t>
            </a:fld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5"/>
          </p:nvPr>
        </p:nvSpPr>
        <p:spPr/>
        <p:txBody>
          <a:bodyPr/>
          <a:p>
            <a:fld id="{AAE5928F-1320-4A49-BEB8-1646CA15680D}" type="slidenum">
              <a:t>&lt;#&gt;</a:t>
            </a:fld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5CD896-1CA8-4723-A156-B523CE50E6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5D2C1-783C-4B57-BE31-2D92BFB1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8E777D-D884-42C6-A593-F47DA9D981F5}" type="slidenum">
              <a:t>&lt;#&gt;</a:t>
            </a:fld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2C22A8-9238-4EE7-8C93-EC1CCFEE8AA0}" type="slidenum">
              <a:t>&lt;#&gt;</a:t>
            </a:fld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76695A-6D6D-4E89-AA2F-F8B6A0716AFB}" type="slidenum">
              <a:t>&lt;#&gt;</a:t>
            </a:fld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B44DC-EA5D-492F-89FA-65EDA3F12FFA}" type="slidenum">
              <a:t>&lt;#&gt;</a:t>
            </a:fld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61F43A-A6A4-4DB2-8DFD-48CB7F3A8713}" type="slidenum">
              <a:t>&lt;#&gt;</a:t>
            </a:fld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3D35D4-B04F-4749-97E4-530DE76AEFEB}" type="slidenum">
              <a:t>&lt;#&gt;</a:t>
            </a:fld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43C5C9-CA5E-4DAA-9FB6-5124781A928A}" type="slidenum">
              <a:t>&lt;#&gt;</a:t>
            </a:fld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5F9E46-D2E2-43D7-93F2-D06AE418D7CC}" type="slidenum">
              <a:t>&lt;#&gt;</a:t>
            </a:fld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4C6830-EA20-4EE5-96D1-31FB2CEFCB10}" type="slidenum">
              <a:t>&lt;#&gt;</a:t>
            </a:fld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47E699-AB67-4A4F-AFDE-4BD399088E2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ED1C3-E1CD-415D-9277-763465E1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3563C5-AFB8-4DEE-AE1A-91AF1562DABE}" type="slidenum">
              <a:t>&lt;#&gt;</a:t>
            </a:fld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DBF5782-7118-42CD-A239-8C970B0BE59E}" type="slidenum">
              <a:t>&lt;#&gt;</a:t>
            </a:fld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B93B08-4EF1-4CC0-9BA9-2F41082D7D71}" type="slidenum">
              <a:t>&lt;#&gt;</a:t>
            </a:fld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A95CAD3-56BE-4ADB-A025-0CAFE0928C6C}" type="slidenum">
              <a:t>&lt;#&gt;</a:t>
            </a:fld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FCB799E-D60E-4F41-BB09-E31B71A99B51}" type="slidenum">
              <a:t>&lt;#&gt;</a:t>
            </a:fld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3C21118-4F5B-4A75-A520-0FA2576BF4AD}" type="slidenum">
              <a:t>&lt;#&gt;</a:t>
            </a:fld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BE5F7C1-1D16-4DCD-A3E3-2DE4F3CDE1E1}" type="slidenum">
              <a:t>&lt;#&gt;</a:t>
            </a:fld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595F535-DB18-4263-BF90-8B4DEA258C4F}" type="slidenum">
              <a:t>&lt;#&gt;</a:t>
            </a:fld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98CBFFF-1D51-4A3B-9AE0-C73F892A0102}" type="slidenum">
              <a:t>&lt;#&gt;</a:t>
            </a:fld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D48632-8864-48D0-AFCB-C31ED137881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933A0B-7EF9-486A-A031-74FD399C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2C10FBD-2039-4391-A110-6C8322C8BE5F}" type="slidenum">
              <a:t>&lt;#&gt;</a:t>
            </a:fld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7D9658F-D180-4E56-A85D-773F4B3816F7}" type="slidenum">
              <a:t>&lt;#&gt;</a:t>
            </a:fld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003436-D3F9-4BDF-9DC1-F4BD0E76052B}" type="slidenum">
              <a:t>&lt;#&gt;</a:t>
            </a:fld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07D0175-DDE5-4BE5-ACB6-332F46E718E9}" type="slidenum">
              <a:t>&lt;#&gt;</a:t>
            </a:fld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5EFBBD1-E844-4684-AB19-439D0E1EC288}" type="slidenum">
              <a:t>&lt;#&gt;</a:t>
            </a:fld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CA993BE-031A-4592-9168-7C1C8D77CC40}" type="slidenum">
              <a:t>&lt;#&gt;</a:t>
            </a:fld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37245F-DA40-480E-B3C8-198AD7986088}" type="slidenum">
              <a:t>&lt;#&gt;</a:t>
            </a:fld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0C9192A-4FA2-4668-915D-A9303927690C}" type="slidenum">
              <a:t>&lt;#&gt;</a:t>
            </a:fld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47C9E7B-79A8-41F7-95CF-1B28347E0D7B}" type="slidenum">
              <a:t>&lt;#&gt;</a:t>
            </a:fld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05DBF27-822C-47A6-A847-D89DC54F3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5FA2-9861-4CC7-B6FF-6E2A5450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589C9F-D103-43CC-9511-9E5C7D7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A692F0F-7DC7-4341-AF15-DCE7908471BB}" type="slidenum">
              <a:t>&lt;#&gt;</a:t>
            </a:fld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0709523-ECD0-4FDA-8F2B-CA2CDCC15F45}" type="slidenum">
              <a:t>&lt;#&gt;</a:t>
            </a:fld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7B0C2B-270A-44E2-9FB0-B25A35D72ED6}" type="slidenum">
              <a:t>&lt;#&gt;</a:t>
            </a:fld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8B554B7-0277-401C-BE29-F012BDD544A2}" type="slidenum">
              <a:t>&lt;#&gt;</a:t>
            </a:fld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E9B2224-C66E-492D-8833-10580EBF1C74}" type="slidenum">
              <a:t>&lt;#&gt;</a:t>
            </a:fld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228F81-1B29-407B-BF25-17C45402EF66}" type="slidenum">
              <a:t>&lt;#&gt;</a:t>
            </a:fld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B8BAC-4DCD-40ED-8503-2EC18AE51143}" type="slidenum">
              <a:t>&lt;#&gt;</a:t>
            </a:fld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8F4761-1F02-46DD-AC5A-B33EB937B99B}" type="slidenum">
              <a:t>&lt;#&gt;</a:t>
            </a:fld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98B404-12AE-4185-A9A5-C679A65B5D91}" type="slidenum">
              <a:t>&lt;#&gt;</a:t>
            </a:fld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778267-45FF-4FBD-B9AF-332E3478263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E1F2D-D0FF-463F-AE73-01A2D96F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D41F8-9032-44EF-B038-B1EDC6D88F01}" type="slidenum">
              <a:t>&lt;#&gt;</a:t>
            </a:fld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FA867F-E63F-4FD8-86D5-B34EB6FBD1EE}" type="slidenum">
              <a:t>&lt;#&gt;</a:t>
            </a:fld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3DACCF-ECD0-4190-969F-860612B9A5C4}" type="slidenum">
              <a:t>&lt;#&gt;</a:t>
            </a:fld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E7D15C-158C-47F6-A50A-459AC908EE7A}" type="slidenum">
              <a:t>&lt;#&gt;</a:t>
            </a:fld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F219EC-CA74-4107-9822-88DD60E0FFE4}" type="slidenum">
              <a:t>&lt;#&gt;</a:t>
            </a:fld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94683E-13AC-4701-AFA4-25176289CC1B}" type="slidenum">
              <a:t>&lt;#&gt;</a:t>
            </a:fld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B6CE73-2786-4B04-9F2F-84C7C56CC9D6}" type="slidenum">
              <a:t>&lt;#&gt;</a:t>
            </a:fld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32951AB-1407-4531-BE48-AB8B6D2B9BFF}" type="slidenum">
              <a:t>&lt;#&gt;</a:t>
            </a:fld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954BE76-F79F-462D-B466-EC748F2F595B}" type="slidenum">
              <a:t>&lt;#&gt;</a:t>
            </a:fld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AE2654-D930-46EC-8458-02237E9BF0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1D8778-E49F-43DE-B8B0-4A5D13F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199FB1B-E9A8-4CE3-B8C0-3DD72A9AEB54}" type="slidenum">
              <a:t>&lt;#&gt;</a:t>
            </a:fld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16FA91D-079E-4335-A650-57790E4BA5D7}" type="slidenum">
              <a:t>&lt;#&gt;</a:t>
            </a:fld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189180-5044-417B-9BF0-C7C76D484B2F}" type="slidenum">
              <a:t>&lt;#&gt;</a:t>
            </a:fld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EDB8FCE-766F-4487-BABF-F180DA7D90A1}" type="slidenum">
              <a:t>&lt;#&gt;</a:t>
            </a:fld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A52B67F-4288-4A38-93DF-6754C75F4F98}" type="slidenum">
              <a:t>&lt;#&gt;</a:t>
            </a:fld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DD48E5-DD79-42FD-A839-18C723E98566}" type="slidenum">
              <a:t>&lt;#&gt;</a:t>
            </a:fld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72B541A-9796-48A6-92AD-F85DF4824CCE}" type="slidenum">
              <a:t>&lt;#&gt;</a:t>
            </a:fld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2916576-313D-4241-8314-0960245FCB4A}" type="slidenum">
              <a:t>&lt;#&gt;</a:t>
            </a:fld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7B64551-CE1D-4BC0-B1FD-9C3D49F39DE3}" type="slidenum">
              <a:t>&lt;#&gt;</a:t>
            </a:fld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0AC196-C3AB-49DE-B6B3-E466FA78A04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392109-C24B-4B18-BFE4-AB7839ED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24C2829-FD1F-4943-8345-8C446B86585C}" type="slidenum">
              <a:t>&lt;#&gt;</a:t>
            </a:fld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A215FD-3813-43F0-AE37-74E830CE8828}" type="slidenum">
              <a:t>&lt;#&gt;</a:t>
            </a:fld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3769A1-C218-413B-BFEA-7C57908221EE}" type="slidenum">
              <a:t>&lt;#&gt;</a:t>
            </a:fld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67FFFB3-6599-4E7B-9A21-E605D361A528}" type="slidenum">
              <a:t>&lt;#&gt;</a:t>
            </a:fld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9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667BBC1-54C7-46F6-97BD-6F258BBFE373}" type="slidenum">
              <a:t>&lt;#&gt;</a:t>
            </a:fld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8C4AEA-7630-42EC-87AA-4AA4910ED1EB}" type="slidenum">
              <a:t>&lt;#&gt;</a:t>
            </a:fld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8DFA038-F58D-4291-8788-5DCE83371A25}" type="slidenum">
              <a:t>&lt;#&gt;</a:t>
            </a:fld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98E10BE-0108-4589-81B8-0E174430302C}" type="slidenum">
              <a:t>&lt;#&gt;</a:t>
            </a:fld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4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E198EAE-EC72-4AD2-A377-02DA5090DAD0}" type="slidenum">
              <a:t>&lt;#&gt;</a:t>
            </a:fld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9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69F4170-6520-4EF3-B235-D880D3CCF53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A72D3-58CC-497C-9888-81CF90B770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5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6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6A183E9-D43E-4441-A6FD-236F105E853B}" type="slidenum">
              <a:t>&lt;#&gt;</a:t>
            </a:fld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7F61D-E3AE-4094-83A7-F58C599C78B3}" type="slidenum">
              <a:t>&lt;#&gt;</a:t>
            </a:fld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5DB698-4166-4B10-89A8-9F196F519636}" type="slidenum">
              <a:t>&lt;#&gt;</a:t>
            </a:fld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CED576-B65B-4C16-BBE5-B829CC8E8B46}" type="slidenum">
              <a:t>&lt;#&gt;</a:t>
            </a:fld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86BCC-CBCF-4F67-848F-76F8C866D904}" type="slidenum">
              <a:t>&lt;#&gt;</a:t>
            </a:fld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057FFB-BD3C-4494-9C17-DDC3453AF194}" type="slidenum">
              <a:t>&lt;#&gt;</a:t>
            </a:fld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048B4B-48AF-4B65-A794-CF7BE3D0C2C1}" type="slidenum">
              <a:t>&lt;#&gt;</a:t>
            </a:fld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3A12DC-3AF3-4650-8AB1-00829FADF7E8}" type="slidenum">
              <a:t>&lt;#&gt;</a:t>
            </a:fld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D42A6D-DDDE-4BBF-820D-B704FB3B8105}" type="slidenum">
              <a:t>&lt;#&gt;</a:t>
            </a:fld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F64950-F41B-4279-803C-A48535CC24C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3CEAD1-CB4A-49B0-B496-E4ADFF6478CB}" type="slidenum">
              <a:t>&lt;#&gt;</a:t>
            </a:fld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3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7754D4-844A-4776-9DB0-1A57EAFAE144}" type="slidenum">
              <a:t>&lt;#&gt;</a:t>
            </a:fld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8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9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0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515F75-76B1-4C2E-B3A4-331DB38EC1CF}" type="slidenum">
              <a:t>&lt;#&gt;</a:t>
            </a:fld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CF210FA-DBBB-498A-8FA2-A2AD49D7E588}" type="slidenum">
              <a:t>&lt;#&gt;</a:t>
            </a:fld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6CAA3B-AE4E-422E-BD4E-329557180B0F}" type="slidenum">
              <a:t>&lt;#&gt;</a:t>
            </a:fld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DF58EF0-B94B-4403-B77E-184673D967FC}" type="slidenum">
              <a:t>&lt;#&gt;</a:t>
            </a:fld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1EA3BD-5EDF-48C0-81CF-971668B75123}" type="slidenum">
              <a:t>&lt;#&gt;</a:t>
            </a:fld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61C3DFA-B4FC-45A4-92A8-C239A7018752}" type="slidenum">
              <a:t>&lt;#&gt;</a:t>
            </a:fld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05F988-9D5A-4B7F-A867-B8A4667D0831}" type="slidenum">
              <a:t>&lt;#&gt;</a:t>
            </a:fld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BA819F-F1CB-42AA-9C36-3C826E03258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095857F-452B-4F03-8FA7-FBB8516DF3BB}" type="slidenum">
              <a:t>&lt;#&gt;</a:t>
            </a:fld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F01E8C6-2ED7-4FC9-A44E-0B668026CB0B}" type="slidenum">
              <a:t>&lt;#&gt;</a:t>
            </a:fld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CA5BC3E-19BA-4388-A88C-4C503E7A60B3}" type="slidenum">
              <a:t>&lt;#&gt;</a:t>
            </a:fld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D23D1F8-51B0-4FD9-A1E0-FC9EE377676C}" type="slidenum">
              <a:t>&lt;#&gt;</a:t>
            </a:fld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0D6B78-778A-42A5-ADE2-6C7190BA4467}" type="slidenum">
              <a:t>&lt;#&gt;</a:t>
            </a:fld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BCCD0FB-3195-4E6F-AEAA-8AFB30BC41EA}" type="slidenum">
              <a:t>&lt;#&gt;</a:t>
            </a:fld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51541C-35E9-4823-BBF4-B96590DB0DC2}" type="slidenum">
              <a:t>&lt;#&gt;</a:t>
            </a:fld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DCA2172-625E-438C-ABD4-9B54C49183FE}" type="slidenum">
              <a:t>&lt;#&gt;</a:t>
            </a:fld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3027D58-0CC8-4D58-9B75-E21BEE875FFB}" type="slidenum">
              <a:t>&lt;#&gt;</a:t>
            </a:fld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8240922-D3C1-46F2-8845-A36F3ACD977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0F07422-413A-44F2-B44B-F9E4D44817B7}" type="slidenum">
              <a:t>&lt;#&gt;</a:t>
            </a:fld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0259D03-EC3C-4E4D-B7E8-998B9200521F}" type="slidenum">
              <a:t>&lt;#&gt;</a:t>
            </a:fld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07B76C-9B3B-4DF1-8078-A90656316C0A}" type="slidenum">
              <a:t>&lt;#&gt;</a:t>
            </a:fld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E7839F7-C04B-4271-A584-076CD6372BD7}" type="slidenum">
              <a:t>&lt;#&gt;</a:t>
            </a:fld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35C40B3-5540-4AC3-98FE-2106C9A6A97C}" type="slidenum">
              <a:t>&lt;#&gt;</a:t>
            </a:fld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07302B-3300-4DF3-88EF-38B87DA82254}" type="slidenum">
              <a:t>&lt;#&gt;</a:t>
            </a:fld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BFE193-9E97-42E9-B6C4-2F1E82819D5B}" type="slidenum">
              <a:t>&lt;#&gt;</a:t>
            </a:fld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9937BB-9FD9-4D27-B62D-E2C7C0B164E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008DED-8705-4884-8EE8-57F1C4249B69}" type="slidenum">
              <a:t>&lt;#&gt;</a:t>
            </a:fld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BDE537A-5EC2-4FA1-B1C1-5B0209AD4B93}" type="slidenum">
              <a:t>&lt;#&gt;</a:t>
            </a:fld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036C01-D501-4C32-9118-EE4276CA1553}" type="slidenum">
              <a:t>&lt;#&gt;</a:t>
            </a:fld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AD6E37-9B45-4500-80C1-6FC974E0CBEE}" type="slidenum">
              <a:t>&lt;#&gt;</a:t>
            </a:fld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B1D599-052C-4CF4-ACA6-915F76D33335}" type="slidenum">
              <a:t>&lt;#&gt;</a:t>
            </a:fld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93356C-5540-440F-9FC3-DCE2EE9A3038}" type="slidenum">
              <a:t>&lt;#&gt;</a:t>
            </a:fld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FBBBE3-2579-458F-A76D-1EB894782E07}" type="slidenum">
              <a:t>&lt;#&gt;</a:t>
            </a:fld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26066F-C63A-4DAF-B7ED-F68A7ACFE52D}" type="slidenum">
              <a:t>&lt;#&gt;</a:t>
            </a:fld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048C68-7203-4A10-B1F4-1BA2514E5D4F}" type="slidenum">
              <a:t>&lt;#&gt;</a:t>
            </a:fld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82705F-D9AF-40D7-93FA-923936D70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D6DC8-A363-4197-8305-A42EB147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60F841-B252-449D-AD5C-74384EAC47B1}" type="slidenum">
              <a:t>&lt;#&gt;</a:t>
            </a:fld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F567E24-F9B2-4413-BF24-C57B8D8B35D5}" type="slidenum">
              <a:t>&lt;#&gt;</a:t>
            </a:fld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140DCD2-0013-4930-8F98-0EE4C196F388}" type="slidenum">
              <a:t>&lt;#&gt;</a:t>
            </a:fld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BF30AC6-8FAA-430D-9EEA-88555BECE7D0}" type="slidenum">
              <a:t>&lt;#&gt;</a:t>
            </a:fld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EDB187B-CAB4-42CF-AF10-1B06027F6CB5}" type="slidenum">
              <a:t>&lt;#&gt;</a:t>
            </a:fld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5D0019A-CF5E-4785-B74E-6F2C6DDD7606}" type="slidenum">
              <a:t>&lt;#&gt;</a:t>
            </a:fld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BC9A74D-2F29-4AFA-B13A-C5DA5B422AD0}" type="slidenum">
              <a:t>&lt;#&gt;</a:t>
            </a:fld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3329FB8-E544-4366-81E9-A3B6AEC1D333}" type="slidenum">
              <a:t>&lt;#&gt;</a:t>
            </a:fld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4FAF5B4-699B-41D4-AB94-D67E03131AEA}" type="slidenum">
              <a:t>&lt;#&gt;</a:t>
            </a:fld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C8E3A17-F83F-4142-BF4C-C017590F41F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F68D644-9E99-4215-9ECC-1DD0976FD933}" type="slidenum">
              <a:t>&lt;#&gt;</a:t>
            </a:fld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55A2C6-9008-4E8D-AEB1-721AF8F5D0BE}" type="slidenum">
              <a:t>&lt;#&gt;</a:t>
            </a:fld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D7302D02-035D-4763-89C0-AAA285D83EDA}" type="slidenum">
              <a:t>&lt;#&gt;</a:t>
            </a:fld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48CDD0E-42E3-452D-B834-7579AAC6CDC1}" type="slidenum">
              <a:t>&lt;#&gt;</a:t>
            </a:fld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5A04E97-3FE6-4B6D-970F-F760786272B2}" type="slidenum">
              <a:t>&lt;#&gt;</a:t>
            </a:fld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94D58AC-66D1-47FD-84B2-BC55D628B433}" type="slidenum">
              <a:t>&lt;#&gt;</a:t>
            </a:fld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F8B176C-E010-4B89-B037-C212559E18B4}" type="slidenum">
              <a:t>&lt;#&gt;</a:t>
            </a:fld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E967825-9B52-4199-BA57-CBC81512402D}" type="slidenum">
              <a:t>&lt;#&gt;</a:t>
            </a:fld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65B1E5C-2F8C-4672-B2B9-7349CC535B7C}" type="slidenum">
              <a:t>&lt;#&gt;</a:t>
            </a:fld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AD0A705-4E70-4C63-AEFA-1FB8B39BE73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DBD3CBB-4167-478E-8DEA-F3C2EE2842D6}" type="slidenum">
              <a:t>&lt;#&gt;</a:t>
            </a:fld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8EA36F3D-B252-439F-A687-12EBA79B2015}" type="slidenum">
              <a:t>&lt;#&gt;</a:t>
            </a:fld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32365C-E1EC-4346-9B66-9DA1C0DC57AC}" type="slidenum">
              <a:t>&lt;#&gt;</a:t>
            </a:fld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BB38A67-E9E1-4CE4-AB54-162AD0519820}" type="slidenum">
              <a:t>&lt;#&gt;</a:t>
            </a:fld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7C93AF91-DE12-454E-BB3E-CA4722DFA7E4}" type="slidenum">
              <a:t>&lt;#&gt;</a:t>
            </a:fld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8B0242-E8CB-44DA-B8CC-C20BADA2CA59}" type="slidenum">
              <a:t>&lt;#&gt;</a:t>
            </a:fld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57676E6-CE62-4C81-87F1-8FE9BA90C13E}" type="slidenum">
              <a:t>&lt;#&gt;</a:t>
            </a:fld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AC2E73-E65E-448F-9B2A-98C269A6FDEB}" type="slidenum">
              <a:t>&lt;#&gt;</a:t>
            </a:fld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A847815-760E-4255-91E5-46D7ED51ED80}" type="slidenum">
              <a:t>&lt;#&gt;</a:t>
            </a:fld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68556-8C77-495B-B909-B270A1FEC72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579DDC-DB46-4283-A998-38A8BBF0222F}" type="slidenum">
              <a:t>&lt;#&gt;</a:t>
            </a:fld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3BD893-4E55-43A5-B725-47FC1648E134}" type="slidenum">
              <a:t>&lt;#&gt;</a:t>
            </a:fld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2E42FB-1A02-44E6-956B-686B9FD5D8F5}" type="slidenum">
              <a:t>&lt;#&gt;</a:t>
            </a:fld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566106-B9C5-4CF5-8AA5-5AE25C6A9CFF}" type="slidenum">
              <a:t>&lt;#&gt;</a:t>
            </a:fld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B0B137-1EDB-4858-B942-B5A20DBA2BDA}" type="slidenum">
              <a:t>&lt;#&gt;</a:t>
            </a:fld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30E1E8-EFCF-4CB1-845D-A7DA6C4C8BD9}" type="slidenum">
              <a:t>&lt;#&gt;</a:t>
            </a:fld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4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1E084EA-42A2-4A12-A78B-F5F5AD4E28E4}" type="slidenum">
              <a:t>&lt;#&gt;</a:t>
            </a:fld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A680290-6F58-43BA-9613-F324DDC8B6F2}" type="slidenum">
              <a:t>&lt;#&gt;</a:t>
            </a:fld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E8F1D7-2450-44D0-989E-EFFA786AECE0}" type="slidenum">
              <a:t>&lt;#&gt;</a:t>
            </a:fld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D3EF246-B397-4A59-B929-B3E3A682F6B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4A47CFD-1EAE-449A-8E94-1D93E44FB9CF}" type="slidenum">
              <a:t>&lt;#&gt;</a:t>
            </a:fld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FAAE83E-12E7-48D4-8AF6-1454D8234443}" type="slidenum">
              <a:t>&lt;#&gt;</a:t>
            </a:fld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0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1D176E5-82A7-44D3-8077-A4650FBA735C}" type="slidenum">
              <a:t>&lt;#&gt;</a:t>
            </a:fld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6202A6C-EF4C-4778-BD55-F929600DD8C9}" type="slidenum">
              <a:t>&lt;#&gt;</a:t>
            </a:fld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9A9AF6B-400C-4AC4-8D57-236FDD920A4F}" type="slidenum">
              <a:t>&lt;#&gt;</a:t>
            </a:fld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F80B63-7F93-4FFF-9C02-87D6E61153F8}" type="slidenum">
              <a:t>&lt;#&gt;</a:t>
            </a:fld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2332385-4929-482A-9291-8D79C47518EB}" type="slidenum">
              <a:t>&lt;#&gt;</a:t>
            </a:fld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7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0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C6C1F70-139B-4C24-A96D-9EDE6343C951}" type="slidenum">
              <a:t>&lt;#&gt;</a:t>
            </a:fld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6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7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5BE672-05EF-43D6-B261-5E5E8BC79985}" type="slidenum">
              <a:t>&lt;#&gt;</a:t>
            </a:fld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BC6DA2A-DE8A-4D72-A906-DE08FFF1186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027D020-81EE-4A1D-9D05-EE39207A2CFE}" type="slidenum">
              <a:t>&lt;#&gt;</a:t>
            </a:fld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600AC9D-419C-4ABB-9623-C350590C7B19}" type="slidenum">
              <a:t>&lt;#&gt;</a:t>
            </a:fld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296278-2E1A-4153-A122-6DE6167BE89A}" type="slidenum">
              <a:t>&lt;#&gt;</a:t>
            </a:fld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F17E5FD-F06C-43C5-AD0C-EF5DB385E97A}" type="slidenum">
              <a:t>&lt;#&gt;</a:t>
            </a:fld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988EC1B-1F57-4FFC-88AE-194E5845347D}" type="slidenum">
              <a:t>&lt;#&gt;</a:t>
            </a:fld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0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77318F5-4B89-47C3-930C-B2C5500DF6EA}" type="slidenum">
              <a:t>&lt;#&gt;</a:t>
            </a:fld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2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087F9D9-0FDE-4939-AE6A-2CD533DAA750}" type="slidenum">
              <a:t>&lt;#&gt;</a:t>
            </a:fld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06FFF1D-AD70-4863-8F6E-3ED4B9709A71}" type="slidenum">
              <a:t>&lt;#&gt;</a:t>
            </a:fld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4736C87-B0A3-457B-8F7D-6AECBBB8FDF6}" type="slidenum">
              <a:t>&lt;#&gt;</a:t>
            </a:fld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4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F84764-16C3-4136-B36D-349F91E6BF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8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29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0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1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70C95BD-D8B3-47CE-A41A-8FA871D6F098}" type="slidenum">
              <a:t>&lt;#&gt;</a:t>
            </a:fld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EC322B-56A6-4B15-ACFF-E4490F141372}" type="slidenum">
              <a:t>&lt;#&gt;</a:t>
            </a:fld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E12172-2926-4DA4-BB6C-2AB775AEB69F}" type="slidenum">
              <a:t>&lt;#&gt;</a:t>
            </a:fld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EF720C-7794-4F9C-81A2-C2FD7D2E4333}" type="slidenum">
              <a:t>&lt;#&gt;</a:t>
            </a:fld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81D483-B338-430A-96E7-E59DC9FA9662}" type="slidenum">
              <a:t>&lt;#&gt;</a:t>
            </a:fld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8B82B99-4EAA-4B2C-9F37-133BA3AC58ED}" type="slidenum">
              <a:t>&lt;#&gt;</a:t>
            </a:fld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DAEACAD-211C-4F00-A47A-293E149E31F4}" type="slidenum">
              <a:t>&lt;#&gt;</a:t>
            </a:fld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93F45C-3043-4095-9837-67C1317DA575}" type="slidenum">
              <a:t>&lt;#&gt;</a:t>
            </a:fld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DC907C-23BD-460A-AAC6-82544FDB6BDD}" type="slidenum">
              <a:t>&lt;#&gt;</a:t>
            </a:fld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D85185-7079-4E7A-932A-D157C434B2D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F6EED-20EA-4B71-ACE3-C22E5BCFD993}" type="slidenum">
              <a:t>&lt;#&gt;</a:t>
            </a:fld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36B92A-8F62-4F5F-BB8E-241F2F94FF1C}" type="slidenum">
              <a:t>&lt;#&gt;</a:t>
            </a:fld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6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A1E0EB-66AD-4EF3-B123-BA623E4AF630}" type="slidenum">
              <a:t>&lt;#&gt;</a:t>
            </a:fld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5193B-6AB6-4DE9-A116-BF1F46CFBB3B}" type="slidenum">
              <a:t>&lt;#&gt;</a:t>
            </a:fld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BF7F6C-446B-4C47-A88C-64C061F6EFAF}" type="slidenum">
              <a:t>&lt;#&gt;</a:t>
            </a:fld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12FEFFC-C97D-4964-8E18-89B9896102BB}" type="slidenum">
              <a:t>&lt;#&gt;</a:t>
            </a:fld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71E5E6A-82C6-4BE3-B588-06088053688D}" type="slidenum">
              <a:t>&lt;#&gt;</a:t>
            </a:fld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010B005-E508-43A6-BD62-CFDBF54D0F80}" type="slidenum">
              <a:t>&lt;#&gt;</a:t>
            </a:fld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1C830B1-2BA9-4BFE-A6CD-3D913134390E}" type="slidenum">
              <a:t>&lt;#&gt;</a:t>
            </a:fld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82E93F5-34E2-4C48-8148-F530FD2A0E72}" type="slidenum">
              <a:t>&lt;#&gt;</a:t>
            </a:fld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472536A-1382-408C-9F9C-492CF02F54E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BAF8-827C-425F-AB29-8FC85E24515E}" type="slidenum">
              <a:t>&lt;#&gt;</a:t>
            </a:fld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D888894-E065-435D-B710-EC4DBAF1D9C2}" type="slidenum">
              <a:t>&lt;#&gt;</a:t>
            </a:fld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CA5DAEA-4CB5-4C7D-B1AB-4D945A2786A3}" type="slidenum">
              <a:t>&lt;#&gt;</a:t>
            </a:fld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CF5B78A-22C2-4533-A711-468DB94BCD4E}" type="slidenum">
              <a:t>&lt;#&gt;</a:t>
            </a:fld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1F9EA38-4D63-4DC9-B426-7F8E743E0E36}" type="slidenum">
              <a:t>&lt;#&gt;</a:t>
            </a:fld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6586342-C01D-4B07-B733-A3F4389DA1A5}" type="slidenum">
              <a:t>&lt;#&gt;</a:t>
            </a:fld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37AF573-9804-4A76-99D4-4893C6319836}" type="slidenum">
              <a:t>&lt;#&gt;</a:t>
            </a:fld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F39FA0-3933-4B5F-B808-199F96F85E3F}" type="slidenum">
              <a:t>&lt;#&gt;</a:t>
            </a:fld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56AE39B-6E3A-4360-AD74-738026D70B79}" type="slidenum">
              <a:t>&lt;#&gt;</a:t>
            </a:fld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41433A-A9CA-4D7E-B6CC-56E8D6258550}" type="slidenum">
              <a:t>&lt;#&gt;</a:t>
            </a:fld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FF32F55-5CED-4184-A22F-635320F02E4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6E53-A1E5-4E57-8082-E4298FB7F51E}" type="slidenum">
              <a:t>&lt;#&gt;</a:t>
            </a:fld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C88ED51-82D1-4509-8ADD-B39E0DC15B11}" type="slidenum">
              <a:t>&lt;#&gt;</a:t>
            </a:fld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100E89F-ABB5-42B7-90F2-48F8E496A752}" type="slidenum">
              <a:t>&lt;#&gt;</a:t>
            </a:fld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ADB9FE6-DF17-42FD-9791-6934064BA8AF}" type="slidenum">
              <a:t>&lt;#&gt;</a:t>
            </a:fld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3605F4E-2A06-49F3-A11E-9A23BD58AA2C}" type="slidenum">
              <a:t>&lt;#&gt;</a:t>
            </a:fld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5829499-840A-41D1-89AE-0CC4D15AEFDB}" type="slidenum">
              <a:t>&lt;#&gt;</a:t>
            </a:fld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7E32017-7FC7-4767-B978-C091B502E6EF}" type="slidenum">
              <a:t>&lt;#&gt;</a:t>
            </a:fld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136EB7F-8818-4E59-A440-334C0E32841C}" type="slidenum">
              <a:t>&lt;#&gt;</a:t>
            </a:fld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9B1B20-C7EF-46B9-BBB6-5E8196313EE3}" type="slidenum">
              <a:t>&lt;#&gt;</a:t>
            </a:fld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7C3441-5905-47A7-B156-CA0DDE6D5417}" type="slidenum">
              <a:t>&lt;#&gt;</a:t>
            </a:fld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059B80-5D2C-4A40-850C-684E72E2E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3D0C-90D9-4E32-996F-8108B49B143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2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1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EB24-3249-437E-A695-CB78B0397F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6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48BA-A9CC-4677-8CB2-1921BD6B44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8097-DCD9-418B-930A-BEB4C07CE60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45A-92F5-467F-B65C-1B2FEF6C8F6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7D6A-1CD5-4EED-B4D6-903EA686C3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4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94F7-E4BF-42F1-B2E8-AC15400F8AC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Num" idx="2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6126-320D-42DF-BF1D-EFCBDFC99F4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3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160F-3384-4DFE-B2EB-EE3DBC0DE9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sldNum" idx="2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D6DF-5247-4615-BDE0-95E0B39171B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15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16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17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818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1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22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823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4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825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826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828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829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1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2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3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834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2ECB-D919-4BCC-90B2-6641DD30DF4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87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7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D59-5243-4C21-881E-8AB004B218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2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sldNum" idx="2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1598-46EC-42C9-8BAD-DC1E67B0CFC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6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6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sldNum" idx="2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4BA6-5B29-4750-9652-7B6742C1BFD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1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2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0797-F552-49B8-A234-F049663E496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5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5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Num" idx="2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0556-5AB9-4F75-A4A7-B6001DE3020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9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sldNum" idx="3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861-D232-4FEF-9CAB-F6363C1DC7C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3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4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3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4AE5-3B97-4C70-82FA-10E74C49689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18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18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3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1468-ABBA-4735-88CB-7EAEBE6EEC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sldNum" idx="3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5A02-DEA2-4F03-87EC-D69BEFC92B6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2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sldNum" idx="3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9803-F9E0-4F27-B342-DBF0C654B77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4A2-80C3-4A94-A90A-22E1EF7110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314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5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316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317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18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9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20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321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322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3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324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325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26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327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328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9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0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1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2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333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33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37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sldNum" idx="3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64E6-6118-4F4C-8121-06E50C6733B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1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3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CB41-350A-42EF-8700-20F5E6D1AB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4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6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 type="sldNum" idx="3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710-5108-40FB-8DB8-2503C78767C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sldNum" idx="3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1A3B-8BFE-4957-85A7-FEE880EE827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4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5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5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 type="sldNum" idx="3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0C50-8741-4E83-A037-D7226864A77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59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sldNum" idx="4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19D-4A7D-427E-9C50-573B8CC0E35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3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4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 type="sldNum" idx="4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B1E9-26F5-4DEB-83AB-8B37041E943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6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68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sldNum" idx="4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3170-5F8F-44C5-8884-69A5ABE662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2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2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 type="sldNum" idx="4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2A7-C8D5-492D-A37E-892722CB439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E39D-71DC-47D7-9132-D6B6BCDEF03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7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7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sldNum" idx="4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DD04-AF80-4212-9251-C6AD6B60F3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2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813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14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815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816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17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8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19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820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1821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2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823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824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5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26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827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8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9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0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1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32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7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7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sldNum" idx="4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42B8-EF38-4809-98D6-3D381C83C59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2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sldNum" idx="4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64C0-8D1A-4784-A2EA-96B26082C5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9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6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9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sldNum" idx="4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B3F-B26E-4CDB-92D9-2E40722CC28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0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0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0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4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D164-F274-4BB8-AE9E-4CFE3143995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4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 type="sldNum" idx="4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A08C-50F8-4CA0-B4A5-67C1FF65F4A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09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09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 type="sldNum" idx="5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4F74-271E-4D9A-A12B-FE335EDED77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4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 type="sldNum" idx="5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E790-2A5F-400A-9F8F-CF8C272360B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18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18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 type="sldNum" idx="5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C9EBB-BB46-47D0-A332-4393197522E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A8FE-42DB-44F7-A6DE-D49E0D313B2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2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2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sldNum" idx="5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136F-4C87-4C6C-B324-F083DF370484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7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27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sldNum" idx="5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F127-10D0-478F-B5CD-7756BF4D8A8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1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312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13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314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315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6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7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8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319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320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1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322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323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4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325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326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7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8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9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0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331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33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3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7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 type="sldNum" idx="5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2A5F-AFE3-41D4-9B20-246C3179E14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1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1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sldNum" idx="5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EFB-D30F-4903-80F2-F692F544441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45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6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46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5" name="PlaceHolder 3"/>
          <p:cNvSpPr>
            <a:spLocks noGrp="1"/>
          </p:cNvSpPr>
          <p:nvPr>
            <p:ph type="sldNum" idx="5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2EC-9B00-4E64-9E22-9D19E5E4DFA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0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0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9" name="PlaceHolder 3"/>
          <p:cNvSpPr>
            <a:spLocks noGrp="1"/>
          </p:cNvSpPr>
          <p:nvPr>
            <p:ph type="sldNum" idx="5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EE56-3FB9-4FCB-9D66-64DABDD47DA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4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5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5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 type="sldNum" idx="5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C820-4308-4B9B-ADE2-0C5456CB3A2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5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5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59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 type="sldNum" idx="6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8FA2-CAEF-439E-9923-54A1087467C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3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 type="sldNum" idx="6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CCE4-E35D-4038-A51F-101F9BECE62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D659-869D-42F4-9978-3865A9D3A54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67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68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 type="sldNum" idx="6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6090-EE07-41C3-8C9D-813CAF91CA3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2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2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2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 type="sldNum" idx="6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D61F-078B-42E2-A21E-CC3B82918C0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7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 type="sldNum" idx="6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00D-AEAF-48DD-871F-201CEDE323AE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811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1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281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281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6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2818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2819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0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82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282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282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82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6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7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8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9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283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83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87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sldNum" idx="6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B447-1B30-4B64-BBE1-F5113C7E4E2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1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1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1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 type="sldNum" idx="6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0030-2546-46D5-AE7F-E93493DE0AB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95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96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9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4" name="PlaceHolder 3"/>
          <p:cNvSpPr>
            <a:spLocks noGrp="1"/>
          </p:cNvSpPr>
          <p:nvPr>
            <p:ph type="sldNum" idx="6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2876-EE94-4B69-B2B6-B5EC62B5CBB3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0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0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 type="sldNum" idx="6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9397-2C48-4A3B-913B-195F46441E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5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 type="sldNum" idx="6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582-3E9B-441F-B495-F94CA5DAC2C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09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1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2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9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09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9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6" name="PlaceHolder 3"/>
          <p:cNvSpPr>
            <a:spLocks noGrp="1"/>
          </p:cNvSpPr>
          <p:nvPr>
            <p:ph type="sldNum" idx="7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EA35-F2EE-4278-8869-2655FE4FCF28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CB3-3C27-4524-845E-41DA62794E71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3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34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5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3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38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0" name="PlaceHolder 3"/>
          <p:cNvSpPr>
            <a:spLocks noGrp="1"/>
          </p:cNvSpPr>
          <p:nvPr>
            <p:ph type="sldNum" idx="7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0E39-39CB-4888-830A-A2FBD259C0E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7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78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9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81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18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4" name="PlaceHolder 3"/>
          <p:cNvSpPr>
            <a:spLocks noGrp="1"/>
          </p:cNvSpPr>
          <p:nvPr>
            <p:ph type="sldNum" idx="7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9891-9854-48F0-B45D-8EA22F0D1E6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1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3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4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5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2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 type="sldNum" idx="7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2A73-5656-4C1E-A5F1-DA4EE028D6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26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7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7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2" name="PlaceHolder 3"/>
          <p:cNvSpPr>
            <a:spLocks noGrp="1"/>
          </p:cNvSpPr>
          <p:nvPr>
            <p:ph type="sldNum" idx="7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7441-C6BE-4FAA-9B4D-6D22F04E925A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9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310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1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312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313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4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15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16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317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318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19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320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321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2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323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24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5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6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7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8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29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30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36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37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5" name="PlaceHolder 3"/>
          <p:cNvSpPr>
            <a:spLocks noGrp="1"/>
          </p:cNvSpPr>
          <p:nvPr>
            <p:ph type="sldNum" idx="7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2F1F-E07D-478F-97EF-27E81C556AA7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1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1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1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sldNum" idx="76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1D45-037B-457E-B633-2E0003D23F9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45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6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46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3" name="PlaceHolder 3"/>
          <p:cNvSpPr>
            <a:spLocks noGrp="1"/>
          </p:cNvSpPr>
          <p:nvPr>
            <p:ph type="sldNum" idx="7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1E61-4969-4411-88C9-518E277F734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0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0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0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 type="sldNum" idx="78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CF42-A150-4279-A07C-268A35A59D0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4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4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4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 type="sldNum" idx="7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B6DC-B906-4E8A-ABD3-D4885A8995E6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31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1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31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32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32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32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33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3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8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589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0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1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59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59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5" name="PlaceHolder 3"/>
          <p:cNvSpPr>
            <a:spLocks noGrp="1"/>
          </p:cNvSpPr>
          <p:nvPr>
            <p:ph type="sldNum" idx="80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70E1-F2C1-44F6-8520-CE9A20E47CB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2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33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4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36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3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9" name="PlaceHolder 3"/>
          <p:cNvSpPr>
            <a:spLocks noGrp="1"/>
          </p:cNvSpPr>
          <p:nvPr>
            <p:ph type="sldNum" idx="8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9A91-67C3-4571-9DC5-DFCC36163D9B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6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77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8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9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0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8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 type="sldNum" idx="82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768E-C0F9-47BF-9120-E6A5340E8432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2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2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8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7D96-7E74-4A96-9996-9DFBC0FF37AD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6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6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 type="sldNum" idx="84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DD19-2A4F-4799-B2BA-44D10492BBE0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4FD0-242F-4527-A452-36335F00235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5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7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6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2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0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75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29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3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8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619272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三章　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神经肌肉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 type="subTitle"/>
          </p:nvPr>
        </p:nvSpPr>
        <p:spPr>
          <a:xfrm>
            <a:off x="755640" y="5445000"/>
            <a:ext cx="671040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延边大学护理学院     崔文香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脑脊液测定正常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859" name="对象 2"/>
          <p:cNvGraphicFramePr/>
          <p:nvPr/>
        </p:nvGraphicFramePr>
        <p:xfrm>
          <a:off x="179280" y="1268280"/>
          <a:ext cx="8591760" cy="540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0" name="对象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591760" cy="540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2" name=""/>
          <p:cNvSpPr txBox="1"/>
          <p:nvPr/>
        </p:nvSpPr>
        <p:spPr>
          <a:xfrm>
            <a:off x="468000" y="162864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胚胎时期神经细胞的分化和繁殖以惊人的速度进行，每分钟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0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；胚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月时，神经细胞数目达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亿个，之后不再有神经细胞数量的增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婴儿期，各种刺激引起的神经冲动传导缓慢，且易于泛化，不易形成兴奋灶，因而婴儿易产生疲劳而进入睡眠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4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生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角膜反射、瞳孔对光反射、结膜反射及吞咽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存在，以后逐渐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觅食反射、拥抱反射、握持反射、吸吮反射，迈步反射及颈肢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出生时不存在，以后逐渐出现并终身不消失的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腹壁反射、提睾反射及腱反射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6" name=""/>
          <p:cNvSpPr txBox="1"/>
          <p:nvPr/>
        </p:nvSpPr>
        <p:spPr>
          <a:xfrm>
            <a:off x="550800" y="1628640"/>
            <a:ext cx="8352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一）病理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包括巴宾斯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abinski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戈登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ordon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、奥苯海姆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Oppenhei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征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岁以内可为阳性，个别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阳性可为生理反应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若单侧阳性，结合临床考虑是否为病理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68" name=""/>
          <p:cNvSpPr txBox="1"/>
          <p:nvPr/>
        </p:nvSpPr>
        <p:spPr>
          <a:xfrm>
            <a:off x="1907640" y="2997000"/>
            <a:ext cx="55436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二节 化脓性脑膜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6C5-8315-427C-80BA-036F293A9F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各种化脓性细菌感染引起的急性脑膜炎症，是小儿、尤其婴幼儿时期常见的中枢神经系统感染性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致病菌的侵袭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09EA-30E7-4169-809A-4E956084A30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5" name="Oval 5"/>
          <p:cNvSpPr/>
          <p:nvPr/>
        </p:nvSpPr>
        <p:spPr>
          <a:xfrm>
            <a:off x="3276720" y="2133720"/>
            <a:ext cx="2590560" cy="10792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致病菌的侵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6" name="Rectangle 11"/>
          <p:cNvSpPr/>
          <p:nvPr/>
        </p:nvSpPr>
        <p:spPr>
          <a:xfrm>
            <a:off x="43488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0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7" name="Rectangle 11"/>
          <p:cNvSpPr/>
          <p:nvPr/>
        </p:nvSpPr>
        <p:spPr>
          <a:xfrm>
            <a:off x="6084720" y="3800520"/>
            <a:ext cx="269748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以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8" name="Rectangle 11"/>
          <p:cNvSpPr/>
          <p:nvPr/>
        </p:nvSpPr>
        <p:spPr>
          <a:xfrm>
            <a:off x="3276720" y="38005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个月</a:t>
            </a:r>
            <a:r>
              <a:rPr b="1" lang="en-US" sz="24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9" name="Rectangle 11"/>
          <p:cNvSpPr/>
          <p:nvPr/>
        </p:nvSpPr>
        <p:spPr>
          <a:xfrm>
            <a:off x="43488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肠道革兰阴性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金黄色葡萄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0" name="Rectangle 11"/>
          <p:cNvSpPr/>
          <p:nvPr/>
        </p:nvSpPr>
        <p:spPr>
          <a:xfrm>
            <a:off x="32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流感嗜血杆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1" name="Rectangle 11"/>
          <p:cNvSpPr/>
          <p:nvPr/>
        </p:nvSpPr>
        <p:spPr>
          <a:xfrm>
            <a:off x="6084720" y="5084640"/>
            <a:ext cx="269748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脑膜炎双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肺炎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2" name="Line 3"/>
          <p:cNvSpPr/>
          <p:nvPr/>
        </p:nvSpPr>
        <p:spPr>
          <a:xfrm flipH="1">
            <a:off x="241092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3" name="Line 3"/>
          <p:cNvSpPr/>
          <p:nvPr/>
        </p:nvSpPr>
        <p:spPr>
          <a:xfrm>
            <a:off x="4572000" y="3357720"/>
            <a:ext cx="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4" name="Line 3"/>
          <p:cNvSpPr/>
          <p:nvPr/>
        </p:nvSpPr>
        <p:spPr>
          <a:xfrm>
            <a:off x="6300720" y="3141720"/>
            <a:ext cx="43200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5" name="Line 3"/>
          <p:cNvSpPr/>
          <p:nvPr/>
        </p:nvSpPr>
        <p:spPr>
          <a:xfrm>
            <a:off x="197964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6" name="Line 3"/>
          <p:cNvSpPr/>
          <p:nvPr/>
        </p:nvSpPr>
        <p:spPr>
          <a:xfrm>
            <a:off x="457200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7" name="Line 3"/>
          <p:cNvSpPr/>
          <p:nvPr/>
        </p:nvSpPr>
        <p:spPr>
          <a:xfrm>
            <a:off x="7380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86104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机体免疫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AB92-20B5-488D-BDCB-0B0AD168FB9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1" name="Oval 5"/>
          <p:cNvSpPr/>
          <p:nvPr/>
        </p:nvSpPr>
        <p:spPr>
          <a:xfrm>
            <a:off x="3419640" y="2205000"/>
            <a:ext cx="2286000" cy="10666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机体免疫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2" name="Rectangle 11"/>
          <p:cNvSpPr/>
          <p:nvPr/>
        </p:nvSpPr>
        <p:spPr>
          <a:xfrm>
            <a:off x="111600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M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3" name="Rectangle 11"/>
          <p:cNvSpPr/>
          <p:nvPr/>
        </p:nvSpPr>
        <p:spPr>
          <a:xfrm>
            <a:off x="5076720" y="37893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IgA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含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4" name="Rectangle 11"/>
          <p:cNvSpPr/>
          <p:nvPr/>
        </p:nvSpPr>
        <p:spPr>
          <a:xfrm>
            <a:off x="115416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大肠埃希菌败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5" name="Rectangle 11"/>
          <p:cNvSpPr/>
          <p:nvPr/>
        </p:nvSpPr>
        <p:spPr>
          <a:xfrm>
            <a:off x="5076720" y="5084640"/>
            <a:ext cx="2697120" cy="86544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呼吸道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胃肠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6" name="Line 3"/>
          <p:cNvSpPr/>
          <p:nvPr/>
        </p:nvSpPr>
        <p:spPr>
          <a:xfrm flipH="1">
            <a:off x="2771280" y="3141720"/>
            <a:ext cx="53028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7" name="Line 3"/>
          <p:cNvSpPr/>
          <p:nvPr/>
        </p:nvSpPr>
        <p:spPr>
          <a:xfrm>
            <a:off x="5867280" y="3141720"/>
            <a:ext cx="433440" cy="5032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8" name="Line 3"/>
          <p:cNvSpPr/>
          <p:nvPr/>
        </p:nvSpPr>
        <p:spPr>
          <a:xfrm>
            <a:off x="248436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9" name="Line 3"/>
          <p:cNvSpPr/>
          <p:nvPr/>
        </p:nvSpPr>
        <p:spPr>
          <a:xfrm>
            <a:off x="6732720" y="46530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FF7C-A457-49E5-A260-31EF8CD651D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826560" y="285480"/>
            <a:ext cx="83170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—</a:t>
            </a:r>
            <a:r>
              <a:rPr b="0" i="1" lang="zh-CN" sz="3200" spc="-1" strike="noStrike">
                <a:solidFill>
                  <a:srgbClr val="ffff00"/>
                </a:solidFill>
                <a:latin typeface="Verdana"/>
                <a:ea typeface="宋体"/>
              </a:rPr>
              <a:t>致病菌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2" name="Text Box 30"/>
          <p:cNvSpPr/>
          <p:nvPr/>
        </p:nvSpPr>
        <p:spPr>
          <a:xfrm>
            <a:off x="6300720" y="3573360"/>
            <a:ext cx="3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3" name="图片 1" descr=""/>
          <p:cNvPicPr/>
          <p:nvPr/>
        </p:nvPicPr>
        <p:blipFill>
          <a:blip r:embed="rId1"/>
          <a:stretch/>
        </p:blipFill>
        <p:spPr>
          <a:xfrm>
            <a:off x="588960" y="1844640"/>
            <a:ext cx="8132760" cy="4249800"/>
          </a:xfrm>
          <a:prstGeom prst="rect">
            <a:avLst/>
          </a:prstGeom>
          <a:ln w="0">
            <a:noFill/>
          </a:ln>
        </p:spPr>
      </p:pic>
      <p:sp>
        <p:nvSpPr>
          <p:cNvPr id="3904" name="AutoShape 5"/>
          <p:cNvSpPr/>
          <p:nvPr/>
        </p:nvSpPr>
        <p:spPr>
          <a:xfrm>
            <a:off x="2411280" y="2254320"/>
            <a:ext cx="432000" cy="3095640"/>
          </a:xfrm>
          <a:custGeom>
            <a:avLst/>
            <a:gdLst>
              <a:gd name="textAreaLeft" fmla="*/ 276120 w 432000"/>
              <a:gd name="textAreaRight" fmla="*/ 432360 w 43200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5" name="图片 2" descr=""/>
          <p:cNvPicPr/>
          <p:nvPr/>
        </p:nvPicPr>
        <p:blipFill>
          <a:blip r:embed="rId2"/>
          <a:stretch/>
        </p:blipFill>
        <p:spPr>
          <a:xfrm>
            <a:off x="1284120" y="3706920"/>
            <a:ext cx="4813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典型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08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D3B0-1B9F-4B51-A769-BB1B7C3F8FB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9" name="Oval 5"/>
          <p:cNvSpPr/>
          <p:nvPr/>
        </p:nvSpPr>
        <p:spPr>
          <a:xfrm>
            <a:off x="3203640" y="1268280"/>
            <a:ext cx="25923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典型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0" name="Rectangle 11"/>
          <p:cNvSpPr/>
          <p:nvPr/>
        </p:nvSpPr>
        <p:spPr>
          <a:xfrm>
            <a:off x="425520" y="290196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感染中毒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急性脑功能障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1" name="Rectangle 11"/>
          <p:cNvSpPr/>
          <p:nvPr/>
        </p:nvSpPr>
        <p:spPr>
          <a:xfrm>
            <a:off x="607536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2" name="Rectangle 11"/>
          <p:cNvSpPr/>
          <p:nvPr/>
        </p:nvSpPr>
        <p:spPr>
          <a:xfrm>
            <a:off x="3267000" y="2913120"/>
            <a:ext cx="269712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3" name="Rectangle 11"/>
          <p:cNvSpPr/>
          <p:nvPr/>
        </p:nvSpPr>
        <p:spPr>
          <a:xfrm>
            <a:off x="71280" y="4197240"/>
            <a:ext cx="320544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发热、烦躁不安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进行性加重的意识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4" name="Rectangle 11"/>
          <p:cNvSpPr/>
          <p:nvPr/>
        </p:nvSpPr>
        <p:spPr>
          <a:xfrm>
            <a:off x="3348000" y="4197240"/>
            <a:ext cx="269712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痛、呕吐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婴儿则有前囟饱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与张力增高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头围增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5" name="Rectangle 11"/>
          <p:cNvSpPr/>
          <p:nvPr/>
        </p:nvSpPr>
        <p:spPr>
          <a:xfrm>
            <a:off x="6146640" y="4197240"/>
            <a:ext cx="2889360" cy="18241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颈项强直最常见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其他如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Kernig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Brudzinski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征阳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6" name="Line 3"/>
          <p:cNvSpPr/>
          <p:nvPr/>
        </p:nvSpPr>
        <p:spPr>
          <a:xfrm flipH="1">
            <a:off x="2401560" y="2252520"/>
            <a:ext cx="53028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7" name="Line 3"/>
          <p:cNvSpPr/>
          <p:nvPr/>
        </p:nvSpPr>
        <p:spPr>
          <a:xfrm>
            <a:off x="4562640" y="246852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8" name="Line 3"/>
          <p:cNvSpPr/>
          <p:nvPr/>
        </p:nvSpPr>
        <p:spPr>
          <a:xfrm>
            <a:off x="6291360" y="2252520"/>
            <a:ext cx="431640" cy="50508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9" name="Line 3"/>
          <p:cNvSpPr/>
          <p:nvPr/>
        </p:nvSpPr>
        <p:spPr>
          <a:xfrm>
            <a:off x="1763640" y="378936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0" name="Line 3"/>
          <p:cNvSpPr/>
          <p:nvPr/>
        </p:nvSpPr>
        <p:spPr>
          <a:xfrm>
            <a:off x="4562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1" name="Line 3"/>
          <p:cNvSpPr/>
          <p:nvPr/>
        </p:nvSpPr>
        <p:spPr>
          <a:xfrm>
            <a:off x="7370640" y="3765600"/>
            <a:ext cx="0" cy="360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2700000" y="1557000"/>
            <a:ext cx="45356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化脓性脑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脑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癫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8320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吉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巴雷综合征                注意力缺陷多动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812" name="Group 4"/>
          <p:cNvGrpSpPr/>
          <p:nvPr/>
        </p:nvGrpSpPr>
        <p:grpSpPr>
          <a:xfrm>
            <a:off x="1819440" y="2579760"/>
            <a:ext cx="688320" cy="593640"/>
            <a:chOff x="1819440" y="2579760"/>
            <a:chExt cx="688320" cy="593640"/>
          </a:xfrm>
        </p:grpSpPr>
        <p:sp>
          <p:nvSpPr>
            <p:cNvPr id="3813" name="AutoShape 5"/>
            <p:cNvSpPr/>
            <p:nvPr/>
          </p:nvSpPr>
          <p:spPr>
            <a:xfrm>
              <a:off x="1824840" y="258984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4" name="AutoShape 6"/>
            <p:cNvSpPr/>
            <p:nvPr/>
          </p:nvSpPr>
          <p:spPr>
            <a:xfrm>
              <a:off x="1819440" y="257976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5" name="AutoShape 7"/>
            <p:cNvSpPr/>
            <p:nvPr/>
          </p:nvSpPr>
          <p:spPr>
            <a:xfrm>
              <a:off x="1859400" y="261468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16" name="Text Box 8"/>
          <p:cNvSpPr/>
          <p:nvPr/>
        </p:nvSpPr>
        <p:spPr>
          <a:xfrm>
            <a:off x="1980720" y="2637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7" name="AutoShape 9"/>
          <p:cNvSpPr/>
          <p:nvPr/>
        </p:nvSpPr>
        <p:spPr>
          <a:xfrm>
            <a:off x="1819440" y="334152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8" name="Text Box 10"/>
          <p:cNvSpPr/>
          <p:nvPr/>
        </p:nvSpPr>
        <p:spPr>
          <a:xfrm>
            <a:off x="1954080" y="3424320"/>
            <a:ext cx="354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19" name="Group 11"/>
          <p:cNvGrpSpPr/>
          <p:nvPr/>
        </p:nvGrpSpPr>
        <p:grpSpPr>
          <a:xfrm>
            <a:off x="1803240" y="4110120"/>
            <a:ext cx="687240" cy="593640"/>
            <a:chOff x="1803240" y="4110120"/>
            <a:chExt cx="687240" cy="593640"/>
          </a:xfrm>
        </p:grpSpPr>
        <p:sp>
          <p:nvSpPr>
            <p:cNvPr id="3820" name="AutoShape 12"/>
            <p:cNvSpPr/>
            <p:nvPr/>
          </p:nvSpPr>
          <p:spPr>
            <a:xfrm>
              <a:off x="1808640" y="412020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1" name="AutoShape 13"/>
            <p:cNvSpPr/>
            <p:nvPr/>
          </p:nvSpPr>
          <p:spPr>
            <a:xfrm>
              <a:off x="1803240" y="411012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2" name="AutoShape 14"/>
            <p:cNvSpPr/>
            <p:nvPr/>
          </p:nvSpPr>
          <p:spPr>
            <a:xfrm>
              <a:off x="1843200" y="414504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23" name="Text Box 15"/>
          <p:cNvSpPr/>
          <p:nvPr/>
        </p:nvSpPr>
        <p:spPr>
          <a:xfrm>
            <a:off x="1971720" y="418608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4" name="AutoShape 16"/>
          <p:cNvSpPr/>
          <p:nvPr/>
        </p:nvSpPr>
        <p:spPr>
          <a:xfrm>
            <a:off x="1803240" y="487188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5" name="Text Box 17"/>
          <p:cNvSpPr/>
          <p:nvPr/>
        </p:nvSpPr>
        <p:spPr>
          <a:xfrm>
            <a:off x="1963440" y="492912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6" name="Line 18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7" name="Line 19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9" name="Line 21"/>
          <p:cNvSpPr/>
          <p:nvPr/>
        </p:nvSpPr>
        <p:spPr>
          <a:xfrm>
            <a:off x="2484360" y="5445000"/>
            <a:ext cx="4824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0" name="Line 21"/>
          <p:cNvSpPr/>
          <p:nvPr/>
        </p:nvSpPr>
        <p:spPr>
          <a:xfrm>
            <a:off x="2484360" y="6093000"/>
            <a:ext cx="48722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1" name="Group 4"/>
          <p:cNvGrpSpPr/>
          <p:nvPr/>
        </p:nvGrpSpPr>
        <p:grpSpPr>
          <a:xfrm>
            <a:off x="1835280" y="5589720"/>
            <a:ext cx="688320" cy="593640"/>
            <a:chOff x="1835280" y="5589720"/>
            <a:chExt cx="688320" cy="593640"/>
          </a:xfrm>
        </p:grpSpPr>
        <p:sp>
          <p:nvSpPr>
            <p:cNvPr id="3832" name="AutoShape 5"/>
            <p:cNvSpPr/>
            <p:nvPr/>
          </p:nvSpPr>
          <p:spPr>
            <a:xfrm>
              <a:off x="1840680" y="55998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3" name="AutoShape 6"/>
            <p:cNvSpPr/>
            <p:nvPr/>
          </p:nvSpPr>
          <p:spPr>
            <a:xfrm>
              <a:off x="1835280" y="55897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4" name="AutoShape 7"/>
            <p:cNvSpPr/>
            <p:nvPr/>
          </p:nvSpPr>
          <p:spPr>
            <a:xfrm>
              <a:off x="1875240" y="562464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35" name="Text Box 8"/>
          <p:cNvSpPr/>
          <p:nvPr/>
        </p:nvSpPr>
        <p:spPr>
          <a:xfrm>
            <a:off x="2014920" y="5661000"/>
            <a:ext cx="33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836" name="Group 11"/>
          <p:cNvGrpSpPr/>
          <p:nvPr/>
        </p:nvGrpSpPr>
        <p:grpSpPr>
          <a:xfrm>
            <a:off x="1763640" y="1773360"/>
            <a:ext cx="687240" cy="593640"/>
            <a:chOff x="1763640" y="1773360"/>
            <a:chExt cx="687240" cy="593640"/>
          </a:xfrm>
        </p:grpSpPr>
        <p:sp>
          <p:nvSpPr>
            <p:cNvPr id="3837" name="AutoShape 12"/>
            <p:cNvSpPr/>
            <p:nvPr/>
          </p:nvSpPr>
          <p:spPr>
            <a:xfrm>
              <a:off x="1769040" y="17834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8" name="AutoShape 13"/>
            <p:cNvSpPr/>
            <p:nvPr/>
          </p:nvSpPr>
          <p:spPr>
            <a:xfrm>
              <a:off x="1763640" y="17733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9" name="AutoShape 14"/>
            <p:cNvSpPr/>
            <p:nvPr/>
          </p:nvSpPr>
          <p:spPr>
            <a:xfrm>
              <a:off x="1803600" y="18082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40" name="Text Box 15"/>
          <p:cNvSpPr/>
          <p:nvPr/>
        </p:nvSpPr>
        <p:spPr>
          <a:xfrm>
            <a:off x="1932120" y="1849320"/>
            <a:ext cx="352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1" name="Line 18"/>
          <p:cNvSpPr/>
          <p:nvPr/>
        </p:nvSpPr>
        <p:spPr>
          <a:xfrm>
            <a:off x="2556000" y="2421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典型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24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5AAF-DEF3-4FC0-B9A0-DCE8E62686DE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5" name="Oval 5"/>
          <p:cNvSpPr/>
          <p:nvPr/>
        </p:nvSpPr>
        <p:spPr>
          <a:xfrm>
            <a:off x="250920" y="3284640"/>
            <a:ext cx="2270160" cy="108108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非典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6" name="Rectangle 11"/>
          <p:cNvSpPr/>
          <p:nvPr/>
        </p:nvSpPr>
        <p:spPr>
          <a:xfrm>
            <a:off x="4211640" y="1700280"/>
            <a:ext cx="4608360" cy="72540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体温可高可低或不发热，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甚至体温不升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7" name="Rectangle 11"/>
          <p:cNvSpPr/>
          <p:nvPr/>
        </p:nvSpPr>
        <p:spPr>
          <a:xfrm>
            <a:off x="4211640" y="4344480"/>
            <a:ext cx="460044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惊厥可不典型，如仅见面部、肢体局灶或多灶性抽动、局部或全身性肌阵挛，或呈眨眼、呼吸不规则、屏气等各种不显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8" name="Rectangle 11"/>
          <p:cNvSpPr/>
          <p:nvPr/>
        </p:nvSpPr>
        <p:spPr>
          <a:xfrm>
            <a:off x="4211640" y="2565360"/>
            <a:ext cx="4608360" cy="11509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颅内压增高表现不明显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幼婴不会诉头痛，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仅有吐奶、尖叫或颅缝分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9" name="Line 3"/>
          <p:cNvSpPr/>
          <p:nvPr/>
        </p:nvSpPr>
        <p:spPr>
          <a:xfrm flipV="1">
            <a:off x="2411280" y="2133360"/>
            <a:ext cx="149544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0" name="Rectangle 11"/>
          <p:cNvSpPr/>
          <p:nvPr/>
        </p:nvSpPr>
        <p:spPr>
          <a:xfrm>
            <a:off x="4211640" y="5448240"/>
            <a:ext cx="46083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膜刺激征不明显，与婴儿肌肉不发达，肌力弱和反应低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1" name="Line 3"/>
          <p:cNvSpPr/>
          <p:nvPr/>
        </p:nvSpPr>
        <p:spPr>
          <a:xfrm>
            <a:off x="2700360" y="4076640"/>
            <a:ext cx="1295280" cy="216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2" name="Line 3"/>
          <p:cNvSpPr/>
          <p:nvPr/>
        </p:nvSpPr>
        <p:spPr>
          <a:xfrm flipV="1">
            <a:off x="2700360" y="3141720"/>
            <a:ext cx="1295280" cy="3585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3" name="Line 3"/>
          <p:cNvSpPr/>
          <p:nvPr/>
        </p:nvSpPr>
        <p:spPr>
          <a:xfrm>
            <a:off x="2268360" y="4724280"/>
            <a:ext cx="1727280" cy="1008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36" name="灯片编号占位符 5"/>
          <p:cNvSpPr/>
          <p:nvPr/>
        </p:nvSpPr>
        <p:spPr>
          <a:xfrm>
            <a:off x="3419640" y="6550200"/>
            <a:ext cx="21333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BC6A-E757-4F51-B460-940797BAA1B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7" name="Oval 5"/>
          <p:cNvSpPr/>
          <p:nvPr/>
        </p:nvSpPr>
        <p:spPr>
          <a:xfrm>
            <a:off x="2843280" y="2205000"/>
            <a:ext cx="2270160" cy="1079640"/>
          </a:xfrm>
          <a:prstGeom prst="ellipse">
            <a:avLst/>
          </a:prstGeom>
          <a:solidFill>
            <a:srgbClr val="03517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8" name="Rectangle 11"/>
          <p:cNvSpPr/>
          <p:nvPr/>
        </p:nvSpPr>
        <p:spPr>
          <a:xfrm>
            <a:off x="250920" y="4292640"/>
            <a:ext cx="1944720" cy="450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硬膜下积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39" name="Rectangle 11"/>
          <p:cNvSpPr/>
          <p:nvPr/>
        </p:nvSpPr>
        <p:spPr>
          <a:xfrm>
            <a:off x="4284720" y="4293720"/>
            <a:ext cx="1727280" cy="45972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积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0" name="Rectangle 11"/>
          <p:cNvSpPr/>
          <p:nvPr/>
        </p:nvSpPr>
        <p:spPr>
          <a:xfrm>
            <a:off x="2411280" y="4292640"/>
            <a:ext cx="1729080" cy="43164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脑室管膜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1" name="Rectangle 11"/>
          <p:cNvSpPr/>
          <p:nvPr/>
        </p:nvSpPr>
        <p:spPr>
          <a:xfrm>
            <a:off x="6429240" y="4074120"/>
            <a:ext cx="2500560" cy="825480"/>
          </a:xfrm>
          <a:prstGeom prst="rect">
            <a:avLst/>
          </a:prstGeom>
          <a:solidFill>
            <a:srgbClr val="7acdfc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抗利尿激素不适当分泌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2" name="Line 3"/>
          <p:cNvSpPr/>
          <p:nvPr/>
        </p:nvSpPr>
        <p:spPr>
          <a:xfrm>
            <a:off x="5364000" y="2997360"/>
            <a:ext cx="1729080" cy="100800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3" name="Line 3"/>
          <p:cNvSpPr/>
          <p:nvPr/>
        </p:nvSpPr>
        <p:spPr>
          <a:xfrm flipH="1">
            <a:off x="3276720" y="3284640"/>
            <a:ext cx="2872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4" name="Line 3"/>
          <p:cNvSpPr/>
          <p:nvPr/>
        </p:nvSpPr>
        <p:spPr>
          <a:xfrm>
            <a:off x="4643280" y="3284640"/>
            <a:ext cx="289080" cy="93636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5" name="Line 3"/>
          <p:cNvSpPr/>
          <p:nvPr/>
        </p:nvSpPr>
        <p:spPr>
          <a:xfrm flipH="1">
            <a:off x="1186920" y="3141720"/>
            <a:ext cx="1584360" cy="934920"/>
          </a:xfrm>
          <a:prstGeom prst="line">
            <a:avLst/>
          </a:prstGeom>
          <a:ln cap="sq" w="38160">
            <a:solidFill>
              <a:srgbClr val="02365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3C9E-A818-4CFC-B81F-2452CE51F7F6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他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皮肤瘀点、瘀斑涂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周血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血清降钙素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神经影像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949" name="Picture 4" descr="图片19"/>
          <p:cNvPicPr/>
          <p:nvPr/>
        </p:nvPicPr>
        <p:blipFill>
          <a:blip r:embed="rId1"/>
          <a:stretch/>
        </p:blipFill>
        <p:spPr>
          <a:xfrm>
            <a:off x="565164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9079-BDAD-49A1-B714-187C7E8B73C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42960" y="1642680"/>
            <a:ext cx="716760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上腺素皮质激素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及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发症治疗：①硬脑膜下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室管膜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3CEF-E23E-46DF-BF63-A230062EAF9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了解小儿患病前有无呼吸道、消化道或皮肤的感染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测量患儿生命体征，评估患儿有无发病各项症状，并判断症状的程度和性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对患儿健康的需求；是否有焦虑和恐惧的心理状况。评估家庭对疾病治疗和护理的经济承受能力和社会的支持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B2B2-2D45-4022-8D5A-01B122851CF4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171360" y="1628640"/>
            <a:ext cx="889344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细菌感染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惊厥发作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88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摄入不足、机体消耗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疾病预后不良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73D3-6F14-49F7-B27F-54B7020105F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6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96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96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6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6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6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7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7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7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5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76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3977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3978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79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0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1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2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3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84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85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86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7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8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89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0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1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2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993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994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5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6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97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8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9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00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01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02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3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04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5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6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7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08" name="AutoShape 53"/>
          <p:cNvSpPr/>
          <p:nvPr/>
        </p:nvSpPr>
        <p:spPr>
          <a:xfrm>
            <a:off x="3465360" y="16765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9" name="圆角矩形 54"/>
          <p:cNvSpPr/>
          <p:nvPr/>
        </p:nvSpPr>
        <p:spPr>
          <a:xfrm>
            <a:off x="4214880" y="1357200"/>
            <a:ext cx="4929120" cy="235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病室安静清洁、空气新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遵医嘱及时给予退热和抗生素等药物治疗，并了解各种药物的使用配伍要求、适应证、禁忌证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2" name="矩形 55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BC5A-691B-4EDD-B051-FF822B9EB96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31" name="AutoShape 53"/>
          <p:cNvSpPr/>
          <p:nvPr/>
        </p:nvSpPr>
        <p:spPr>
          <a:xfrm>
            <a:off x="3622680" y="24955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2" name="圆角矩形 54"/>
          <p:cNvSpPr/>
          <p:nvPr/>
        </p:nvSpPr>
        <p:spPr>
          <a:xfrm>
            <a:off x="4716360" y="1849320"/>
            <a:ext cx="3143520" cy="1284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命体征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并发症的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3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3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3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9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0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1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42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43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4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45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6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7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8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4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05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05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5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5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5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6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057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8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9" name="矩形 81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60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061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062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3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4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65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6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8CA-00AF-40AB-A0BF-FE6BDEB353D9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9" name="AutoShape 53"/>
          <p:cNvSpPr/>
          <p:nvPr/>
        </p:nvSpPr>
        <p:spPr>
          <a:xfrm>
            <a:off x="3933720" y="32590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0" name="圆角矩形 55"/>
          <p:cNvSpPr/>
          <p:nvPr/>
        </p:nvSpPr>
        <p:spPr>
          <a:xfrm>
            <a:off x="4788000" y="2006640"/>
            <a:ext cx="4127400" cy="2735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环境和患儿安静，护理操作动作尽量轻柔、集中进行，修剪患儿指甲，专人守护和陪伴患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协助患儿洗漱、大小便及个人卫生等生活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07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7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7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7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8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8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8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6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8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08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08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9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3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4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95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096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097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8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9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0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1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2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0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0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0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9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0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11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2" name="矩形 138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1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1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1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9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20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3098-4F02-4B3E-97C4-1575BB3A9C85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3" name="AutoShape 53"/>
          <p:cNvSpPr/>
          <p:nvPr/>
        </p:nvSpPr>
        <p:spPr>
          <a:xfrm>
            <a:off x="3940200" y="4199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4" name="圆角矩形 54"/>
          <p:cNvSpPr/>
          <p:nvPr/>
        </p:nvSpPr>
        <p:spPr>
          <a:xfrm>
            <a:off x="4876920" y="3100320"/>
            <a:ext cx="4005000" cy="2225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高热量、高蛋白、高维生素、易消化的清淡流质或半流质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2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2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2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2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2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3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3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3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3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3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0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4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4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4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7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8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9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150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151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2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3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54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5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6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3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4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65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6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6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16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16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7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3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74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-1440" y="1844280"/>
            <a:ext cx="914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说出小儿化脓性脑膜炎、病毒性脑膜炎及癫痫持续状态的定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描述小儿化脓性脑膜炎和吉兰</a:t>
            </a:r>
            <a:r>
              <a:rPr b="0" lang="en-US" sz="2000" spc="-1" strike="noStrike">
                <a:solidFill>
                  <a:srgbClr val="03517d"/>
                </a:solidFill>
                <a:latin typeface="黑体"/>
                <a:ea typeface="黑体"/>
              </a:rPr>
              <a:t>-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巴雷综合征脑脊液的特点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化脓性脑膜炎及病毒性脑膜炎的临床特点</a:t>
            </a: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举例说明小儿癫痫的分型、注意力缺陷多动症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正确选择神经系统检查方法评估神经系统各种神经疾病存在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3517d"/>
              </a:buClr>
              <a:buFont typeface="黑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3517d"/>
                </a:solidFill>
                <a:latin typeface="黑体"/>
                <a:ea typeface="黑体"/>
              </a:rPr>
              <a:t>根据小儿不同年龄、疾病特征及护理问题实施相应的护理措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F907-4996-42ED-A0EF-DCA3A92B13F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7" name="AutoShape 53"/>
          <p:cNvSpPr/>
          <p:nvPr/>
        </p:nvSpPr>
        <p:spPr>
          <a:xfrm flipV="1">
            <a:off x="3100320" y="5068080"/>
            <a:ext cx="1000080" cy="88920"/>
          </a:xfrm>
          <a:prstGeom prst="rightArrow">
            <a:avLst>
              <a:gd name="adj1" fmla="val 50000"/>
              <a:gd name="adj2" fmla="val 2233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8" name="圆角矩形 54"/>
          <p:cNvSpPr/>
          <p:nvPr/>
        </p:nvSpPr>
        <p:spPr>
          <a:xfrm>
            <a:off x="4302000" y="4338720"/>
            <a:ext cx="464364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根据患儿不同年龄，采用不同方式实施心理安慰、关心和爱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给予家长安慰，消除顾虑。恐惧心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6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4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9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19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19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1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2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03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04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05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6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07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8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9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0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7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8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9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0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2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2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2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2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2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7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28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A862-6E79-4FA8-9BC2-3C4C2A6CDE9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1" name="AutoShape 53"/>
          <p:cNvSpPr/>
          <p:nvPr/>
        </p:nvSpPr>
        <p:spPr>
          <a:xfrm>
            <a:off x="3143160" y="59292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2" name="圆角矩形 54"/>
          <p:cNvSpPr/>
          <p:nvPr/>
        </p:nvSpPr>
        <p:spPr>
          <a:xfrm>
            <a:off x="4000680" y="3611520"/>
            <a:ext cx="5000400" cy="2889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积极防治上呼吸道、消化道等感染性疾病，预防皮肤外伤和脐部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与家属一起根据患儿具体情况制订系统且行之有效的功能训练计划，指导家长具体的护理措施，促进机体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0" name="Text Box 35"/>
            <p:cNvSpPr/>
            <p:nvPr/>
          </p:nvSpPr>
          <p:spPr>
            <a:xfrm>
              <a:off x="565920" y="3984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8" name="Text Box 43"/>
            <p:cNvSpPr/>
            <p:nvPr/>
          </p:nvSpPr>
          <p:spPr>
            <a:xfrm>
              <a:off x="565920" y="4848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5" name="Text Box 10"/>
            <p:cNvSpPr/>
            <p:nvPr/>
          </p:nvSpPr>
          <p:spPr>
            <a:xfrm>
              <a:off x="1601280" y="1380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6" name="Text Box 11"/>
            <p:cNvSpPr/>
            <p:nvPr/>
          </p:nvSpPr>
          <p:spPr>
            <a:xfrm>
              <a:off x="565920" y="1392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57" name="Group 20"/>
          <p:cNvGrpSpPr/>
          <p:nvPr/>
        </p:nvGrpSpPr>
        <p:grpSpPr>
          <a:xfrm>
            <a:off x="395280" y="2190600"/>
            <a:ext cx="2879640" cy="1509840"/>
            <a:chOff x="395280" y="2190600"/>
            <a:chExt cx="2879640" cy="1509840"/>
          </a:xfrm>
        </p:grpSpPr>
        <p:grpSp>
          <p:nvGrpSpPr>
            <p:cNvPr id="4258" name="Group 21"/>
            <p:cNvGrpSpPr/>
            <p:nvPr/>
          </p:nvGrpSpPr>
          <p:grpSpPr>
            <a:xfrm>
              <a:off x="395280" y="3035160"/>
              <a:ext cx="761400" cy="665280"/>
              <a:chOff x="395280" y="3035160"/>
              <a:chExt cx="761400" cy="665280"/>
            </a:xfrm>
          </p:grpSpPr>
          <p:sp>
            <p:nvSpPr>
              <p:cNvPr id="4259" name="AutoShape 22"/>
              <p:cNvSpPr/>
              <p:nvPr/>
            </p:nvSpPr>
            <p:spPr>
              <a:xfrm>
                <a:off x="401400" y="30463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0" name="AutoShape 23"/>
              <p:cNvSpPr/>
              <p:nvPr/>
            </p:nvSpPr>
            <p:spPr>
              <a:xfrm>
                <a:off x="395280" y="30351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1" name="AutoShape 24"/>
              <p:cNvSpPr/>
              <p:nvPr/>
            </p:nvSpPr>
            <p:spPr>
              <a:xfrm>
                <a:off x="439560" y="30747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62" name="Line 25"/>
            <p:cNvSpPr/>
            <p:nvPr/>
          </p:nvSpPr>
          <p:spPr>
            <a:xfrm>
              <a:off x="971280" y="36115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3" name="Text Box 26"/>
            <p:cNvSpPr/>
            <p:nvPr/>
          </p:nvSpPr>
          <p:spPr>
            <a:xfrm>
              <a:off x="1617120" y="21906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64" name="Text Box 27"/>
            <p:cNvSpPr/>
            <p:nvPr/>
          </p:nvSpPr>
          <p:spPr>
            <a:xfrm>
              <a:off x="565920" y="308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1" name="Text Box 50"/>
            <p:cNvSpPr/>
            <p:nvPr/>
          </p:nvSpPr>
          <p:spPr>
            <a:xfrm>
              <a:off x="1581120" y="569592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72" name="Text Box 51"/>
            <p:cNvSpPr/>
            <p:nvPr/>
          </p:nvSpPr>
          <p:spPr>
            <a:xfrm>
              <a:off x="565920" y="5711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73" name="矩形 56"/>
          <p:cNvSpPr/>
          <p:nvPr/>
        </p:nvSpPr>
        <p:spPr>
          <a:xfrm>
            <a:off x="1295280" y="4862520"/>
            <a:ext cx="36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4" name="矩形 96"/>
          <p:cNvSpPr/>
          <p:nvPr/>
        </p:nvSpPr>
        <p:spPr>
          <a:xfrm>
            <a:off x="1201680" y="30067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防止外伤、意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27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27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27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1" name="Text Box 19"/>
            <p:cNvSpPr/>
            <p:nvPr/>
          </p:nvSpPr>
          <p:spPr>
            <a:xfrm>
              <a:off x="565920" y="225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82" name="矩形 55"/>
          <p:cNvSpPr/>
          <p:nvPr/>
        </p:nvSpPr>
        <p:spPr>
          <a:xfrm>
            <a:off x="1189080" y="395136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证充足的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4" name="圆角矩形 3"/>
          <p:cNvSpPr/>
          <p:nvPr/>
        </p:nvSpPr>
        <p:spPr>
          <a:xfrm>
            <a:off x="11160" y="1069920"/>
            <a:ext cx="9132840" cy="546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女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个月，因发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，呕吐伴抽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患儿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天前开始发热，体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8.5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持续不降，伴有流涕、咳嗽，烦躁不安。呕吐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，为胃内容物，量多，呈喷射状。入院当天突然出现抽搐，表现为意识丧失、双眼上翻、四肢强直，持续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钟。患病以来精神萎靡，大小便正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体格检查：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 39.45℃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 4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P 15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W 9.0k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精神萎靡，嗜睡。皮肤黏膜未见瘀点、瘀斑。前囟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×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隆起。双侧瞳孔等大等圆，对光反射迟钝。咽部红。颈抵抗，双肺呼吸音粗，心音有力律齐，未闻及病理性杂音。腹软，肝肋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5cm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剑突下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0cm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质中，脾未扪及。脊柱四肢发育正常。四肢肌张力增高，腱反射活跃。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Kernig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Brudzinski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±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、巴氏征（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辅助检查：脑脊液检查结果：压力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430mmH2O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外观浑浊；白细胞数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2000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8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18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蛋白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900mg0.9g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糖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264mmmol/L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氯化物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010 mmmol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血常规检查结果：白细胞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6×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多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72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，单核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.28,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尿常规、便常规。肝功均正常。胸部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线片未见异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问题：</a:t>
            </a:r>
            <a:r>
              <a:rPr b="0" lang="en-US" sz="2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0" lang="zh-CN" sz="2000" spc="-1" strike="noStrike">
                <a:solidFill>
                  <a:srgbClr val="ffff00"/>
                </a:solidFill>
                <a:latin typeface="黑体"/>
                <a:ea typeface="黑体"/>
              </a:rPr>
              <a:t>．患儿最可能的临床诊断是什么？说出诊断依据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5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287" name=""/>
          <p:cNvSpPr txBox="1"/>
          <p:nvPr/>
        </p:nvSpPr>
        <p:spPr>
          <a:xfrm>
            <a:off x="2572920" y="2708280"/>
            <a:ext cx="46069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三节 病毒性脑炎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DD7E-4C90-4DE8-8A83-F44F7D0CCF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脓性脑膜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4000" y="1844280"/>
            <a:ext cx="80326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encephalit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病毒感染引起的颅内急性炎症。若病变主要累及脑实质则称为病毒性脑炎，若病变主要累及脑膜则称为病毒性脑膜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iral meningiti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大多数患儿病程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种病毒感染均可引起脑炎、脑膜炎，但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肠道病毒（柯萨奇病毒、埃可病毒）感染，其次为单纯疱疹病毒、腮腺炎病毒和虫媒病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00B5-1925-4BEE-8E7D-60E955BDD9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4246560" y="299520"/>
            <a:ext cx="48261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5" name="矩形 1"/>
          <p:cNvSpPr/>
          <p:nvPr/>
        </p:nvSpPr>
        <p:spPr>
          <a:xfrm>
            <a:off x="4246560" y="337644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6" name="矩形 27"/>
          <p:cNvSpPr/>
          <p:nvPr/>
        </p:nvSpPr>
        <p:spPr>
          <a:xfrm>
            <a:off x="4992840" y="2467080"/>
            <a:ext cx="188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黑体"/>
                <a:ea typeface="黑体"/>
              </a:rPr>
              <a:t>释放入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7" name="矩形 28"/>
          <p:cNvSpPr/>
          <p:nvPr/>
        </p:nvSpPr>
        <p:spPr>
          <a:xfrm>
            <a:off x="4246560" y="1579680"/>
            <a:ext cx="33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局部的初期复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8" name="矩形 29"/>
          <p:cNvSpPr/>
          <p:nvPr/>
        </p:nvSpPr>
        <p:spPr>
          <a:xfrm>
            <a:off x="2046240" y="1928880"/>
            <a:ext cx="201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胃肠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9" name="矩形 30"/>
          <p:cNvSpPr/>
          <p:nvPr/>
        </p:nvSpPr>
        <p:spPr>
          <a:xfrm>
            <a:off x="343080" y="1558800"/>
            <a:ext cx="1626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0" name="矩形 31"/>
          <p:cNvSpPr/>
          <p:nvPr/>
        </p:nvSpPr>
        <p:spPr>
          <a:xfrm>
            <a:off x="1900080" y="1236600"/>
            <a:ext cx="1509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呼吸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1" name="矩形 32"/>
          <p:cNvSpPr/>
          <p:nvPr/>
        </p:nvSpPr>
        <p:spPr>
          <a:xfrm>
            <a:off x="6378480" y="3425760"/>
            <a:ext cx="2997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发热等全身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2" name="矩形 33"/>
          <p:cNvSpPr/>
          <p:nvPr/>
        </p:nvSpPr>
        <p:spPr>
          <a:xfrm>
            <a:off x="4246560" y="5538960"/>
            <a:ext cx="3094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3" name="矩形 34"/>
          <p:cNvSpPr/>
          <p:nvPr/>
        </p:nvSpPr>
        <p:spPr>
          <a:xfrm>
            <a:off x="5118120" y="434808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血脑屏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4304" name="直接箭头连接符 3"/>
          <p:cNvCxnSpPr/>
          <p:nvPr/>
        </p:nvCxnSpPr>
        <p:spPr>
          <a:xfrm>
            <a:off x="1318680" y="1949040"/>
            <a:ext cx="2791440" cy="108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5" name="直接箭头连接符 5"/>
          <p:cNvCxnSpPr/>
          <p:nvPr/>
        </p:nvCxnSpPr>
        <p:spPr>
          <a:xfrm>
            <a:off x="4992480" y="2184480"/>
            <a:ext cx="1080" cy="124200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cxnSp>
        <p:nvCxnSpPr>
          <p:cNvPr id="4306" name="直接箭头连接符 7"/>
          <p:cNvCxnSpPr/>
          <p:nvPr/>
        </p:nvCxnSpPr>
        <p:spPr>
          <a:xfrm>
            <a:off x="4992480" y="4114800"/>
            <a:ext cx="1080" cy="1519920"/>
          </a:xfrm>
          <a:prstGeom prst="straightConnector1">
            <a:avLst/>
          </a:prstGeom>
          <a:ln w="9360">
            <a:solidFill>
              <a:srgbClr val="006ba6"/>
            </a:solidFill>
            <a:miter/>
            <a:tailEnd len="med" type="triangle" w="med"/>
          </a:ln>
        </p:spPr>
      </p:cxnSp>
      <p:sp>
        <p:nvSpPr>
          <p:cNvPr id="4307" name="直接连接符 9"/>
          <p:cNvSpPr/>
          <p:nvPr/>
        </p:nvSpPr>
        <p:spPr>
          <a:xfrm>
            <a:off x="5792760" y="3795840"/>
            <a:ext cx="585720" cy="0"/>
          </a:xfrm>
          <a:prstGeom prst="line">
            <a:avLst/>
          </a:prstGeom>
          <a:ln w="9360">
            <a:solidFill>
              <a:srgbClr val="006b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膜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先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上呼吸道或消化道感染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史，表现为发热、恶心、呕吐。继而婴儿出现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烦躁不安，易被激惹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；年长儿表现头痛、颈背疼痛，脑膜刺激征阳性。很少发生严重意识障碍和惊厥，无局限性神经系统体征。病程大多为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b05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周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90680" y="162828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性脑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驱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全身感染症状，如发热、头痛、呕吐、腹泻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枢神经系统症状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惊厥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②意识障碍  ③颅内压增高    ④运动功能障碍   ⑤神经情绪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程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，多数患儿可完全恢复，但少数遗留癫痫、肢体瘫痪、智力倒退等后遗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E0DE-7AD4-4551-AD9A-D347F47918E9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42879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毒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/MR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315" name="Picture 4" descr="图片19"/>
          <p:cNvPicPr/>
          <p:nvPr/>
        </p:nvPicPr>
        <p:blipFill>
          <a:blip r:embed="rId1"/>
          <a:stretch/>
        </p:blipFill>
        <p:spPr>
          <a:xfrm>
            <a:off x="5508720" y="350028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5" name=""/>
          <p:cNvSpPr txBox="1"/>
          <p:nvPr/>
        </p:nvSpPr>
        <p:spPr>
          <a:xfrm>
            <a:off x="323640" y="2565360"/>
            <a:ext cx="8591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神经系统解剖生理特点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D75-7405-41EE-8AC9-A9C3BB50CA4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症治疗与支持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降温、镇静止痉、控制脑水肿、降低颅内压，卧床休息，维持体温正常及水、电解质平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病毒治疗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阿昔洛韦、干扰素、更昔洛韦、利巴韦林或静脉注射免疫球蛋白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生素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F9E3-51D8-4BD1-A247-9CE4E71BE7C1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228240" y="1832040"/>
            <a:ext cx="899172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有无呼吸道或胃肠道感染史，有无动物接触史或蚊虫叮咬史，预防接种史和流行病学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健康史：起病前有无上呼吸道感染、胃肠道感染史，是否进行预防接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身体状况：患儿生命体征，精神状态、神志；有无头痛、呕吐、惊厥；囟门是否紧张、隆起、有无脑膜刺激征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6DAA-4CC2-4826-87CB-6EC05EED548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4" name="PlaceHolder 2"/>
          <p:cNvSpPr>
            <a:spLocks noGrp="1"/>
          </p:cNvSpPr>
          <p:nvPr>
            <p:ph/>
          </p:nvPr>
        </p:nvSpPr>
        <p:spPr>
          <a:xfrm>
            <a:off x="247680" y="1730520"/>
            <a:ext cx="8740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体温过高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病毒血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惊厥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急性意识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脑实质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昏迷、瘫痪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于机体需要量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呕吐、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颅内压增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5FE6-72EC-48EA-9CFC-52A01CF6DD5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7" name="AutoShape 53"/>
          <p:cNvSpPr/>
          <p:nvPr/>
        </p:nvSpPr>
        <p:spPr>
          <a:xfrm>
            <a:off x="3454560" y="1566720"/>
            <a:ext cx="650880" cy="73080"/>
          </a:xfrm>
          <a:prstGeom prst="rightArrow">
            <a:avLst>
              <a:gd name="adj1" fmla="val 50000"/>
              <a:gd name="adj2" fmla="val 222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8" name="圆角矩形 54"/>
          <p:cNvSpPr/>
          <p:nvPr/>
        </p:nvSpPr>
        <p:spPr>
          <a:xfrm>
            <a:off x="4214880" y="1357200"/>
            <a:ext cx="4929120" cy="781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2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3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3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3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33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33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4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4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4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34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34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5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35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35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5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6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36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36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6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6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37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37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7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7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38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38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8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3D0-01D9-4241-B06E-AE8D9092F408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9" name="AutoShape 53"/>
          <p:cNvSpPr/>
          <p:nvPr/>
        </p:nvSpPr>
        <p:spPr>
          <a:xfrm>
            <a:off x="3591000" y="219564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0" name="圆角矩形 54"/>
          <p:cNvSpPr/>
          <p:nvPr/>
        </p:nvSpPr>
        <p:spPr>
          <a:xfrm>
            <a:off x="4643280" y="1552680"/>
            <a:ext cx="3143520" cy="1284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惊厥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约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9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39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39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9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9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9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0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0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0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0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0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0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1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1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1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1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2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2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2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2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2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3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3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3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3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3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3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4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4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44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44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4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731C-5E9A-4E97-80BC-AE4E6BBEECC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1" name="AutoShape 53"/>
          <p:cNvSpPr/>
          <p:nvPr/>
        </p:nvSpPr>
        <p:spPr>
          <a:xfrm>
            <a:off x="3946680" y="29383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2" name="圆角矩形 55"/>
          <p:cNvSpPr/>
          <p:nvPr/>
        </p:nvSpPr>
        <p:spPr>
          <a:xfrm>
            <a:off x="4788000" y="2052720"/>
            <a:ext cx="4127400" cy="180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除影响患儿情绪的不良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保护性照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53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454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455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6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7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58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59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0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1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462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463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4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5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6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7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68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69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470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471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2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73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74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5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6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77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478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479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0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1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82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3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4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85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486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487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8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9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90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1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92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93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4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495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496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497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8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9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0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1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02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03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04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05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6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07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8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09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0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F11A-4C79-423F-860B-EBACF8AB6561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3" name="AutoShape 53"/>
          <p:cNvSpPr/>
          <p:nvPr/>
        </p:nvSpPr>
        <p:spPr>
          <a:xfrm>
            <a:off x="4316400" y="3656160"/>
            <a:ext cx="530280" cy="63360"/>
          </a:xfrm>
          <a:prstGeom prst="rightArrow">
            <a:avLst>
              <a:gd name="adj1" fmla="val 50000"/>
              <a:gd name="adj2" fmla="val 22209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14" name="圆角矩形 54"/>
          <p:cNvSpPr/>
          <p:nvPr/>
        </p:nvSpPr>
        <p:spPr>
          <a:xfrm>
            <a:off x="5046840" y="3083040"/>
            <a:ext cx="4005000" cy="12538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呈功能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及早进行肢体功能锻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15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16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17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8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19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0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1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2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23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24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25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6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7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28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9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0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1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32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33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4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5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36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7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38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9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540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541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2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43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4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5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46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47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548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549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0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51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52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3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4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55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6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57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558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559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0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1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62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3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564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65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566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567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8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9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70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1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72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28A7-337C-4E6E-9077-2890B8CEAF4A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5" name="AutoShape 53"/>
          <p:cNvSpPr/>
          <p:nvPr/>
        </p:nvSpPr>
        <p:spPr>
          <a:xfrm flipV="1">
            <a:off x="3429000" y="4368240"/>
            <a:ext cx="727200" cy="44280"/>
          </a:xfrm>
          <a:prstGeom prst="rightArrow">
            <a:avLst>
              <a:gd name="adj1" fmla="val 50000"/>
              <a:gd name="adj2" fmla="val 2307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76" name="圆角矩形 54"/>
          <p:cNvSpPr/>
          <p:nvPr/>
        </p:nvSpPr>
        <p:spPr>
          <a:xfrm>
            <a:off x="4546440" y="3456000"/>
            <a:ext cx="4368960" cy="161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昏迷患儿侧卧位，定时翻身及按摩皮肤，防止出现压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577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578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579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0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1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2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3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84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85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586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587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8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89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0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1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2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93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594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595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6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97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98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9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0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1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02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03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4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5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06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7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8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09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10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11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2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3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14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5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16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17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8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19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20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21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2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23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4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25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26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27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28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29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0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31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32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3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4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D7C-820E-429C-B3B4-F8CFFF8A669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7" name="AutoShape 53"/>
          <p:cNvSpPr/>
          <p:nvPr/>
        </p:nvSpPr>
        <p:spPr>
          <a:xfrm>
            <a:off x="4295880" y="49989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38" name="圆角矩形 54"/>
          <p:cNvSpPr/>
          <p:nvPr/>
        </p:nvSpPr>
        <p:spPr>
          <a:xfrm>
            <a:off x="5351400" y="4479840"/>
            <a:ext cx="3564000" cy="11271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瞳孔及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观察意识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39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640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641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2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3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44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5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6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47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648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649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0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1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52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3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54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5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656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657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8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9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0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1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2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63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664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665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6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67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8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69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0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71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672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673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4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5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76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7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8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79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80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1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682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683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4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5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86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7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688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689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690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691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2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3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94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5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96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80C2-45B6-4160-8A7B-5AC65A15776F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9" name="AutoShape 53"/>
          <p:cNvSpPr/>
          <p:nvPr/>
        </p:nvSpPr>
        <p:spPr>
          <a:xfrm>
            <a:off x="3103560" y="57913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0" name="圆角矩形 54"/>
          <p:cNvSpPr/>
          <p:nvPr/>
        </p:nvSpPr>
        <p:spPr>
          <a:xfrm>
            <a:off x="4316400" y="4511520"/>
            <a:ext cx="4599000" cy="1892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285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1c2850"/>
                </a:solidFill>
                <a:latin typeface="黑体"/>
                <a:ea typeface="黑体"/>
              </a:rPr>
              <a:t>向患儿和家长介绍病情、用药指导及护理方法，指导并鼓励家长坚持智力训练和瘫痪肢体的功能锻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01" name="Group 28"/>
          <p:cNvGrpSpPr/>
          <p:nvPr/>
        </p:nvGrpSpPr>
        <p:grpSpPr>
          <a:xfrm>
            <a:off x="431640" y="3425760"/>
            <a:ext cx="2349360" cy="576360"/>
            <a:chOff x="431640" y="3425760"/>
            <a:chExt cx="2349360" cy="576360"/>
          </a:xfrm>
        </p:grpSpPr>
        <p:grpSp>
          <p:nvGrpSpPr>
            <p:cNvPr id="4702" name="Group 29"/>
            <p:cNvGrpSpPr/>
            <p:nvPr/>
          </p:nvGrpSpPr>
          <p:grpSpPr>
            <a:xfrm>
              <a:off x="431640" y="3425760"/>
              <a:ext cx="621360" cy="576360"/>
              <a:chOff x="431640" y="3425760"/>
              <a:chExt cx="621360" cy="576360"/>
            </a:xfrm>
          </p:grpSpPr>
          <p:sp>
            <p:nvSpPr>
              <p:cNvPr id="4703" name="AutoShape 30"/>
              <p:cNvSpPr/>
              <p:nvPr/>
            </p:nvSpPr>
            <p:spPr>
              <a:xfrm>
                <a:off x="436680" y="3435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4" name="AutoShape 31"/>
              <p:cNvSpPr/>
              <p:nvPr/>
            </p:nvSpPr>
            <p:spPr>
              <a:xfrm>
                <a:off x="431640" y="342576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05" name="AutoShape 32"/>
              <p:cNvSpPr/>
              <p:nvPr/>
            </p:nvSpPr>
            <p:spPr>
              <a:xfrm>
                <a:off x="468000" y="346068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6" name="Line 33"/>
            <p:cNvSpPr/>
            <p:nvPr/>
          </p:nvSpPr>
          <p:spPr>
            <a:xfrm>
              <a:off x="901440" y="392508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7" name="Text Box 34"/>
            <p:cNvSpPr/>
            <p:nvPr/>
          </p:nvSpPr>
          <p:spPr>
            <a:xfrm>
              <a:off x="1285200" y="3469680"/>
              <a:ext cx="149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08" name="Text Box 35"/>
            <p:cNvSpPr/>
            <p:nvPr/>
          </p:nvSpPr>
          <p:spPr>
            <a:xfrm>
              <a:off x="537120" y="3469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09" name="Group 36"/>
          <p:cNvGrpSpPr/>
          <p:nvPr/>
        </p:nvGrpSpPr>
        <p:grpSpPr>
          <a:xfrm>
            <a:off x="431640" y="4119480"/>
            <a:ext cx="2349360" cy="576360"/>
            <a:chOff x="431640" y="4119480"/>
            <a:chExt cx="2349360" cy="576360"/>
          </a:xfrm>
        </p:grpSpPr>
        <p:grpSp>
          <p:nvGrpSpPr>
            <p:cNvPr id="4710" name="Group 37"/>
            <p:cNvGrpSpPr/>
            <p:nvPr/>
          </p:nvGrpSpPr>
          <p:grpSpPr>
            <a:xfrm>
              <a:off x="431640" y="4119480"/>
              <a:ext cx="621360" cy="576360"/>
              <a:chOff x="431640" y="4119480"/>
              <a:chExt cx="621360" cy="576360"/>
            </a:xfrm>
          </p:grpSpPr>
          <p:sp>
            <p:nvSpPr>
              <p:cNvPr id="4711" name="AutoShape 38"/>
              <p:cNvSpPr/>
              <p:nvPr/>
            </p:nvSpPr>
            <p:spPr>
              <a:xfrm>
                <a:off x="436680" y="412920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2" name="AutoShape 39"/>
              <p:cNvSpPr/>
              <p:nvPr/>
            </p:nvSpPr>
            <p:spPr>
              <a:xfrm>
                <a:off x="431640" y="4119480"/>
                <a:ext cx="616320" cy="566640"/>
              </a:xfrm>
              <a:prstGeom prst="hexagon">
                <a:avLst>
                  <a:gd name="adj" fmla="val 2719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13" name="AutoShape 40"/>
              <p:cNvSpPr/>
              <p:nvPr/>
            </p:nvSpPr>
            <p:spPr>
              <a:xfrm>
                <a:off x="468000" y="4154400"/>
                <a:ext cx="541080" cy="497160"/>
              </a:xfrm>
              <a:prstGeom prst="hexagon">
                <a:avLst>
                  <a:gd name="adj" fmla="val 2715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14" name="Line 41"/>
            <p:cNvSpPr/>
            <p:nvPr/>
          </p:nvSpPr>
          <p:spPr>
            <a:xfrm>
              <a:off x="901440" y="4618800"/>
              <a:ext cx="187956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5" name="Text Box 42"/>
            <p:cNvSpPr/>
            <p:nvPr/>
          </p:nvSpPr>
          <p:spPr>
            <a:xfrm>
              <a:off x="1285200" y="4181400"/>
              <a:ext cx="149760" cy="45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6" name="Text Box 43"/>
            <p:cNvSpPr/>
            <p:nvPr/>
          </p:nvSpPr>
          <p:spPr>
            <a:xfrm>
              <a:off x="537120" y="4163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17" name="Group 4"/>
          <p:cNvGrpSpPr/>
          <p:nvPr/>
        </p:nvGrpSpPr>
        <p:grpSpPr>
          <a:xfrm>
            <a:off x="395280" y="1324080"/>
            <a:ext cx="2378160" cy="593280"/>
            <a:chOff x="395280" y="1324080"/>
            <a:chExt cx="2378160" cy="593280"/>
          </a:xfrm>
        </p:grpSpPr>
        <p:grpSp>
          <p:nvGrpSpPr>
            <p:cNvPr id="4718" name="Group 5"/>
            <p:cNvGrpSpPr/>
            <p:nvPr/>
          </p:nvGrpSpPr>
          <p:grpSpPr>
            <a:xfrm>
              <a:off x="395280" y="1341720"/>
              <a:ext cx="621720" cy="575640"/>
              <a:chOff x="395280" y="1341720"/>
              <a:chExt cx="621720" cy="575640"/>
            </a:xfrm>
          </p:grpSpPr>
          <p:sp>
            <p:nvSpPr>
              <p:cNvPr id="4719" name="AutoShape 6"/>
              <p:cNvSpPr/>
              <p:nvPr/>
            </p:nvSpPr>
            <p:spPr>
              <a:xfrm>
                <a:off x="400320" y="135144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0" name="AutoShape 7"/>
              <p:cNvSpPr/>
              <p:nvPr/>
            </p:nvSpPr>
            <p:spPr>
              <a:xfrm>
                <a:off x="395280" y="1341720"/>
                <a:ext cx="616680" cy="565920"/>
              </a:xfrm>
              <a:prstGeom prst="hexagon">
                <a:avLst>
                  <a:gd name="adj" fmla="val 27242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1" name="AutoShape 8"/>
              <p:cNvSpPr/>
              <p:nvPr/>
            </p:nvSpPr>
            <p:spPr>
              <a:xfrm>
                <a:off x="431640" y="1375920"/>
                <a:ext cx="541080" cy="496800"/>
              </a:xfrm>
              <a:prstGeom prst="hexagon">
                <a:avLst>
                  <a:gd name="adj" fmla="val 2722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22" name="Line 9"/>
            <p:cNvSpPr/>
            <p:nvPr/>
          </p:nvSpPr>
          <p:spPr>
            <a:xfrm>
              <a:off x="865080" y="1840680"/>
              <a:ext cx="187992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3" name="Text Box 10"/>
            <p:cNvSpPr/>
            <p:nvPr/>
          </p:nvSpPr>
          <p:spPr>
            <a:xfrm>
              <a:off x="1312560" y="132408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4" name="Text Box 11"/>
            <p:cNvSpPr/>
            <p:nvPr/>
          </p:nvSpPr>
          <p:spPr>
            <a:xfrm>
              <a:off x="500760" y="138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25" name="Group 20"/>
          <p:cNvGrpSpPr/>
          <p:nvPr/>
        </p:nvGrpSpPr>
        <p:grpSpPr>
          <a:xfrm>
            <a:off x="431640" y="1969920"/>
            <a:ext cx="2350440" cy="1307880"/>
            <a:chOff x="431640" y="1969920"/>
            <a:chExt cx="2350440" cy="1307880"/>
          </a:xfrm>
        </p:grpSpPr>
        <p:grpSp>
          <p:nvGrpSpPr>
            <p:cNvPr id="4726" name="Group 21"/>
            <p:cNvGrpSpPr/>
            <p:nvPr/>
          </p:nvGrpSpPr>
          <p:grpSpPr>
            <a:xfrm>
              <a:off x="431640" y="2701440"/>
              <a:ext cx="621720" cy="576360"/>
              <a:chOff x="431640" y="2701440"/>
              <a:chExt cx="621720" cy="576360"/>
            </a:xfrm>
          </p:grpSpPr>
          <p:sp>
            <p:nvSpPr>
              <p:cNvPr id="4727" name="AutoShape 22"/>
              <p:cNvSpPr/>
              <p:nvPr/>
            </p:nvSpPr>
            <p:spPr>
              <a:xfrm>
                <a:off x="436680" y="271116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8" name="AutoShape 23"/>
              <p:cNvSpPr/>
              <p:nvPr/>
            </p:nvSpPr>
            <p:spPr>
              <a:xfrm>
                <a:off x="431640" y="270144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9" name="AutoShape 24"/>
              <p:cNvSpPr/>
              <p:nvPr/>
            </p:nvSpPr>
            <p:spPr>
              <a:xfrm>
                <a:off x="468000" y="273636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0" name="Line 25"/>
            <p:cNvSpPr/>
            <p:nvPr/>
          </p:nvSpPr>
          <p:spPr>
            <a:xfrm>
              <a:off x="901800" y="32011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1" name="Text Box 26"/>
            <p:cNvSpPr/>
            <p:nvPr/>
          </p:nvSpPr>
          <p:spPr>
            <a:xfrm>
              <a:off x="1294560" y="1969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注意患儿安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2" name="Text Box 27"/>
            <p:cNvSpPr/>
            <p:nvPr/>
          </p:nvSpPr>
          <p:spPr>
            <a:xfrm>
              <a:off x="537120" y="2745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33" name="Group 44"/>
          <p:cNvGrpSpPr/>
          <p:nvPr/>
        </p:nvGrpSpPr>
        <p:grpSpPr>
          <a:xfrm>
            <a:off x="468360" y="4746600"/>
            <a:ext cx="2813040" cy="630360"/>
            <a:chOff x="468360" y="4746600"/>
            <a:chExt cx="2813040" cy="630360"/>
          </a:xfrm>
        </p:grpSpPr>
        <p:grpSp>
          <p:nvGrpSpPr>
            <p:cNvPr id="4734" name="Group 45"/>
            <p:cNvGrpSpPr/>
            <p:nvPr/>
          </p:nvGrpSpPr>
          <p:grpSpPr>
            <a:xfrm>
              <a:off x="468360" y="4800240"/>
              <a:ext cx="621720" cy="576720"/>
              <a:chOff x="468360" y="4800240"/>
              <a:chExt cx="621720" cy="576720"/>
            </a:xfrm>
          </p:grpSpPr>
          <p:sp>
            <p:nvSpPr>
              <p:cNvPr id="4735" name="AutoShape 46"/>
              <p:cNvSpPr/>
              <p:nvPr/>
            </p:nvSpPr>
            <p:spPr>
              <a:xfrm>
                <a:off x="473400" y="480996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6" name="AutoShape 47"/>
              <p:cNvSpPr/>
              <p:nvPr/>
            </p:nvSpPr>
            <p:spPr>
              <a:xfrm>
                <a:off x="468360" y="4800240"/>
                <a:ext cx="616680" cy="567000"/>
              </a:xfrm>
              <a:prstGeom prst="hexagon">
                <a:avLst>
                  <a:gd name="adj" fmla="val 2719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7" name="AutoShape 48"/>
              <p:cNvSpPr/>
              <p:nvPr/>
            </p:nvSpPr>
            <p:spPr>
              <a:xfrm>
                <a:off x="504720" y="4835520"/>
                <a:ext cx="541080" cy="49680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38" name="Line 49"/>
            <p:cNvSpPr/>
            <p:nvPr/>
          </p:nvSpPr>
          <p:spPr>
            <a:xfrm>
              <a:off x="938160" y="5299920"/>
              <a:ext cx="188028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39" name="Text Box 50"/>
            <p:cNvSpPr/>
            <p:nvPr/>
          </p:nvSpPr>
          <p:spPr>
            <a:xfrm>
              <a:off x="1393920" y="474660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密切观察病情变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0" name="Text Box 51"/>
            <p:cNvSpPr/>
            <p:nvPr/>
          </p:nvSpPr>
          <p:spPr>
            <a:xfrm>
              <a:off x="573840" y="4844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41" name="矩形 56"/>
          <p:cNvSpPr/>
          <p:nvPr/>
        </p:nvSpPr>
        <p:spPr>
          <a:xfrm>
            <a:off x="1085760" y="4102200"/>
            <a:ext cx="29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2" name="矩形 96"/>
          <p:cNvSpPr/>
          <p:nvPr/>
        </p:nvSpPr>
        <p:spPr>
          <a:xfrm>
            <a:off x="1084320" y="268596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脑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43" name="Group 12"/>
          <p:cNvGrpSpPr/>
          <p:nvPr/>
        </p:nvGrpSpPr>
        <p:grpSpPr>
          <a:xfrm>
            <a:off x="395280" y="2035080"/>
            <a:ext cx="2350800" cy="576360"/>
            <a:chOff x="395280" y="2035080"/>
            <a:chExt cx="2350800" cy="576360"/>
          </a:xfrm>
        </p:grpSpPr>
        <p:grpSp>
          <p:nvGrpSpPr>
            <p:cNvPr id="4744" name="Group 13"/>
            <p:cNvGrpSpPr/>
            <p:nvPr/>
          </p:nvGrpSpPr>
          <p:grpSpPr>
            <a:xfrm>
              <a:off x="395280" y="2035080"/>
              <a:ext cx="621720" cy="576360"/>
              <a:chOff x="395280" y="2035080"/>
              <a:chExt cx="621720" cy="576360"/>
            </a:xfrm>
          </p:grpSpPr>
          <p:sp>
            <p:nvSpPr>
              <p:cNvPr id="4745" name="AutoShape 14"/>
              <p:cNvSpPr/>
              <p:nvPr/>
            </p:nvSpPr>
            <p:spPr>
              <a:xfrm>
                <a:off x="400320" y="204480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6" name="AutoShape 15"/>
              <p:cNvSpPr/>
              <p:nvPr/>
            </p:nvSpPr>
            <p:spPr>
              <a:xfrm>
                <a:off x="395280" y="2035080"/>
                <a:ext cx="616680" cy="566640"/>
              </a:xfrm>
              <a:prstGeom prst="hexagon">
                <a:avLst>
                  <a:gd name="adj" fmla="val 2720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47" name="AutoShape 16"/>
              <p:cNvSpPr/>
              <p:nvPr/>
            </p:nvSpPr>
            <p:spPr>
              <a:xfrm>
                <a:off x="431640" y="2070000"/>
                <a:ext cx="541080" cy="497160"/>
              </a:xfrm>
              <a:prstGeom prst="hexagon">
                <a:avLst>
                  <a:gd name="adj" fmla="val 2717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8" name="Line 17"/>
            <p:cNvSpPr/>
            <p:nvPr/>
          </p:nvSpPr>
          <p:spPr>
            <a:xfrm>
              <a:off x="865440" y="2534400"/>
              <a:ext cx="188064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49" name="Text Box 19"/>
            <p:cNvSpPr/>
            <p:nvPr/>
          </p:nvSpPr>
          <p:spPr>
            <a:xfrm>
              <a:off x="500760" y="2079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50" name="矩形 55"/>
          <p:cNvSpPr/>
          <p:nvPr/>
        </p:nvSpPr>
        <p:spPr>
          <a:xfrm>
            <a:off x="1085760" y="337644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促进肢体功能恢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51" name="Group 44"/>
          <p:cNvGrpSpPr/>
          <p:nvPr/>
        </p:nvGrpSpPr>
        <p:grpSpPr>
          <a:xfrm>
            <a:off x="468360" y="5491080"/>
            <a:ext cx="2349000" cy="630360"/>
            <a:chOff x="468360" y="5491080"/>
            <a:chExt cx="2349000" cy="630360"/>
          </a:xfrm>
        </p:grpSpPr>
        <p:grpSp>
          <p:nvGrpSpPr>
            <p:cNvPr id="4752" name="Group 45"/>
            <p:cNvGrpSpPr/>
            <p:nvPr/>
          </p:nvGrpSpPr>
          <p:grpSpPr>
            <a:xfrm>
              <a:off x="468360" y="5544720"/>
              <a:ext cx="621360" cy="576720"/>
              <a:chOff x="468360" y="5544720"/>
              <a:chExt cx="621360" cy="576720"/>
            </a:xfrm>
          </p:grpSpPr>
          <p:sp>
            <p:nvSpPr>
              <p:cNvPr id="4753" name="AutoShape 46"/>
              <p:cNvSpPr/>
              <p:nvPr/>
            </p:nvSpPr>
            <p:spPr>
              <a:xfrm>
                <a:off x="473400" y="555444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4" name="AutoShape 47"/>
              <p:cNvSpPr/>
              <p:nvPr/>
            </p:nvSpPr>
            <p:spPr>
              <a:xfrm>
                <a:off x="468360" y="5544720"/>
                <a:ext cx="616320" cy="567000"/>
              </a:xfrm>
              <a:prstGeom prst="hexagon">
                <a:avLst>
                  <a:gd name="adj" fmla="val 271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55" name="AutoShape 48"/>
              <p:cNvSpPr/>
              <p:nvPr/>
            </p:nvSpPr>
            <p:spPr>
              <a:xfrm>
                <a:off x="504720" y="5580000"/>
                <a:ext cx="541080" cy="496800"/>
              </a:xfrm>
              <a:prstGeom prst="hexagon">
                <a:avLst>
                  <a:gd name="adj" fmla="val 27157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56" name="Line 49"/>
            <p:cNvSpPr/>
            <p:nvPr/>
          </p:nvSpPr>
          <p:spPr>
            <a:xfrm>
              <a:off x="938160" y="6044400"/>
              <a:ext cx="1879200" cy="327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7" name="Text Box 50"/>
            <p:cNvSpPr/>
            <p:nvPr/>
          </p:nvSpPr>
          <p:spPr>
            <a:xfrm>
              <a:off x="1380600" y="5491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8" name="Text Box 51"/>
            <p:cNvSpPr/>
            <p:nvPr/>
          </p:nvSpPr>
          <p:spPr>
            <a:xfrm>
              <a:off x="605520" y="5588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47" name=""/>
          <p:cNvSpPr txBox="1"/>
          <p:nvPr/>
        </p:nvSpPr>
        <p:spPr>
          <a:xfrm>
            <a:off x="395280" y="1681200"/>
            <a:ext cx="8352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857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857160" indent="-857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48" name="内容占位符 2"/>
          <p:cNvSpPr/>
          <p:nvPr/>
        </p:nvSpPr>
        <p:spPr>
          <a:xfrm>
            <a:off x="617400" y="2349360"/>
            <a:ext cx="790920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系统发育是小儿神经心理行为发展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有器官中神经系统发育居领先地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脑的生长是形态发育与结构功能逐渐成熟的过程，主要是神经细胞体积的增大和与之相连的突触数量的增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0" name="圆角矩形 3"/>
          <p:cNvSpPr/>
          <p:nvPr/>
        </p:nvSpPr>
        <p:spPr>
          <a:xfrm>
            <a:off x="11160" y="1306440"/>
            <a:ext cx="9132840" cy="51181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男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因“发热、神昏抽搐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时”由某医院急诊科收入院，患儿入院时高热，处于中度昏迷状态，频繁抽搐伴意识丧失，喉中痰鸣，大便秘结。查体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39℃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P14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3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P105/56mmHg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瞳孔直径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mm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两侧对称，对光反应迟钝，各生理反射减弱，双侧巴氏征阳性，脑膜刺激征阳性，双眼视盘轻度水肿。脑脊液检查：压力升高，外观清亮，白细胞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0×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以淋巴细胞为主，糖和氯化物正常，蛋白质轻度增高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前曾患有上呼吸道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问题：该患儿的主要护理问题是什么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1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63" name=""/>
          <p:cNvSpPr txBox="1"/>
          <p:nvPr/>
        </p:nvSpPr>
        <p:spPr>
          <a:xfrm>
            <a:off x="2868120" y="2997000"/>
            <a:ext cx="40165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四节　癫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86A0-237C-4D25-B1C2-92F0944F94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癫 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/>
          </p:nvPr>
        </p:nvSpPr>
        <p:spPr>
          <a:xfrm>
            <a:off x="387360" y="1557000"/>
            <a:ext cx="847728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eizure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由于脑部神经元发作性异常放电引起脑功能障碍的一组临床症状，表现为意识障碍、抽搐、精神行为异常等，多数癫痫发作持续时间短暂呈自限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pilepsy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多种原因引起的脑部慢性疾患，是脑内神经元反复发作性异常放电导致突发性、暂时性脑功能失常，临床出现意识、运动、感觉、精神或自主神经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533160" y="206028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内结构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826F-3B45-4A89-BC84-DF1082473AA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1" name="矩形 1"/>
          <p:cNvSpPr/>
          <p:nvPr/>
        </p:nvSpPr>
        <p:spPr>
          <a:xfrm>
            <a:off x="395280" y="2871720"/>
            <a:ext cx="84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发生机制十分复杂，迄今尚未完全阐明。许多研究结果表明它的电生理本质是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神经元过度同步放电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结果，与神经生化、神经生理、神经生物学、免疫学等均密切相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3" name="PlaceHolder 2"/>
          <p:cNvSpPr>
            <a:spLocks noGrp="1"/>
          </p:cNvSpPr>
          <p:nvPr>
            <p:ph/>
          </p:nvPr>
        </p:nvSpPr>
        <p:spPr>
          <a:xfrm>
            <a:off x="47304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局灶性发作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单纯局灶性发作：临床以局灶性运动性发作最常见，发作时间平均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秒，发作后无不适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复杂局灶性发作：发作时有意识、知觉损害。意识部分丧失，多起源于颞区或额颞区，伴有精神行为异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5970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发作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全面部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强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神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肌阵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失张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痉挛发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5201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良性癫痫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最常见的一种癫痫综合征。从口面部开始，很快发展至全身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发作，意识丧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婴儿痉挛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频繁的强直痉挛发作，表现为屈曲性、伸展性及混合性三种。以屈曲性及混合性发作多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Lennox-Gastaut</a:t>
            </a:r>
            <a:r>
              <a:rPr b="1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综合征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多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常见肌阵挛、强直、失张力及非典型失神等多种发作，也可有大发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302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癫痫持续状态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tatus epilepticus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一次发作持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或反复发作间歇期意识不能完全恢复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钟以上者，称为癫痫持续状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因突然停药、药物中毒、高热等诱发。临床多见强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阵挛持续状态，颅内、外急性疾病均可引起，为儿科急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E4F7-098B-41D9-862E-7163AB80C3E8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1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电图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确诊癫痫发作与癫痫最重要的检查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像学检查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I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颅脑影像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783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3850" name="内容占位符 2" descr=""/>
          <p:cNvPicPr/>
          <p:nvPr/>
        </p:nvPicPr>
        <p:blipFill>
          <a:blip r:embed="rId1"/>
          <a:stretch/>
        </p:blipFill>
        <p:spPr>
          <a:xfrm>
            <a:off x="838080" y="1332000"/>
            <a:ext cx="733428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9613-95DF-42CE-B152-F089FA97575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/>
          </p:nvPr>
        </p:nvSpPr>
        <p:spPr>
          <a:xfrm>
            <a:off x="384120" y="211608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癫痫药物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药物治疗原则是早期用药，根据发作类型选药，以单一用药为主，从小剂量开始直至完全控制发作，长期规律服药，定期复查、监测药物血浓度，注意药物的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治疗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针对经合理规范的抗癫痫药物治疗其疗效不佳者，属于难治性癫痫，其中部分患儿可以考虑手术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287C-335F-4AA0-A97E-00AAF005E3B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饥饿、过饱、饮酒、劳累等诱发因素，家庭居住的气候、环境条件，家族中有无类似病史的成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生命体征，了解患儿发作时的临床表现、发作时间及次数等，了解相关影像学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患儿家长对疾病的认知程度，是否有焦虑和恐惧的心理状况。了解可能引发疾病的社会及环境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CAB5-2747-4911-8D4D-57CA0B6C49F0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窒息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喉痉挛、呼吸道分泌物增多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受伤的危险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癫痫发作时抽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潜在并发症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水肿、酸中毒、呼吸衰竭、循环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知识缺乏：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儿家长缺乏癫痫发作的急救知识及正确服用抗癫痫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F842-77BD-4D89-80BB-C7E579656E5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5" name="AutoShape 53"/>
          <p:cNvSpPr/>
          <p:nvPr/>
        </p:nvSpPr>
        <p:spPr>
          <a:xfrm>
            <a:off x="3571920" y="1914480"/>
            <a:ext cx="488880" cy="46080"/>
          </a:xfrm>
          <a:prstGeom prst="rightArrow">
            <a:avLst>
              <a:gd name="adj1" fmla="val 50000"/>
              <a:gd name="adj2" fmla="val 22058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6" name="圆角矩形 54"/>
          <p:cNvSpPr/>
          <p:nvPr/>
        </p:nvSpPr>
        <p:spPr>
          <a:xfrm>
            <a:off x="4214880" y="1563840"/>
            <a:ext cx="4929120" cy="780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热患儿及时给予降温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97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798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799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0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1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02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3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04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05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06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07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8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9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0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1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2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13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814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15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6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7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18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19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0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21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22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23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4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25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6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7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28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29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0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31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32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33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4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35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36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7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38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6CE-0C8B-4D53-BD67-2BAB8DE0DEE4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1" name="AutoShape 53"/>
          <p:cNvSpPr/>
          <p:nvPr/>
        </p:nvSpPr>
        <p:spPr>
          <a:xfrm>
            <a:off x="3368520" y="28098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2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操作时勿强行按压肢体，以免引起骨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护患儿肢体，防止皮肤破损、骨折或脱臼、坠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当活动与休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43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44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45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6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47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48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9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0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1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52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53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4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55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56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7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58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59" name="Group 4"/>
          <p:cNvGrpSpPr/>
          <p:nvPr/>
        </p:nvGrpSpPr>
        <p:grpSpPr>
          <a:xfrm>
            <a:off x="196920" y="1565280"/>
            <a:ext cx="2997720" cy="748800"/>
            <a:chOff x="196920" y="1565280"/>
            <a:chExt cx="2997720" cy="748800"/>
          </a:xfrm>
        </p:grpSpPr>
        <p:grpSp>
          <p:nvGrpSpPr>
            <p:cNvPr id="4860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861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2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63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64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5" name="Text Box 10"/>
            <p:cNvSpPr/>
            <p:nvPr/>
          </p:nvSpPr>
          <p:spPr>
            <a:xfrm>
              <a:off x="155412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气道通畅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66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67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868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869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0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71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72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3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74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75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6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77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878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879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0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1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82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83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84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9533-55A8-495B-B2AA-E1868817ED56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7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8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癫痫发作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呼吸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循环衰竭的征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患儿经抗癫痫治疗后，癫痫发作、智力和运动发育等状况的转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89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890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891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2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93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94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5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96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897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898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899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0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1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02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3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04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05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06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07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8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09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0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1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2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13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14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15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6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17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18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19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0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21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22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23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24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25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6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27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28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29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30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DB41-4888-4CC1-8CF3-FF1D0A06125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3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34" name="圆角矩形 54"/>
          <p:cNvSpPr/>
          <p:nvPr/>
        </p:nvSpPr>
        <p:spPr>
          <a:xfrm>
            <a:off x="4495680" y="3833640"/>
            <a:ext cx="4324320" cy="2654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围生期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家长合理安排患儿的生活与学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用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除患儿的精神负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35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4936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4937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8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39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0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1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2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43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4944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4945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6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7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48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49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0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1" name="Group 4"/>
          <p:cNvGrpSpPr/>
          <p:nvPr/>
        </p:nvGrpSpPr>
        <p:grpSpPr>
          <a:xfrm>
            <a:off x="196920" y="1565280"/>
            <a:ext cx="2998440" cy="748800"/>
            <a:chOff x="196920" y="1565280"/>
            <a:chExt cx="2998440" cy="748800"/>
          </a:xfrm>
        </p:grpSpPr>
        <p:grpSp>
          <p:nvGrpSpPr>
            <p:cNvPr id="4952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4953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4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5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56" name="Line 9"/>
            <p:cNvSpPr/>
            <p:nvPr/>
          </p:nvSpPr>
          <p:spPr>
            <a:xfrm>
              <a:off x="796680" y="221400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7" name="Text Box 10"/>
            <p:cNvSpPr/>
            <p:nvPr/>
          </p:nvSpPr>
          <p:spPr>
            <a:xfrm>
              <a:off x="1603440" y="16279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维持正常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58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59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4960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4961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2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63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4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5" name="Text Box 26"/>
            <p:cNvSpPr/>
            <p:nvPr/>
          </p:nvSpPr>
          <p:spPr>
            <a:xfrm>
              <a:off x="1420200" y="2562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安全防护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66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67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昏迷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8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969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4970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4971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2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73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74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5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976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持环境安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78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五节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195480" indent="-195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0FA6-0EA3-4985-BA48-0E5BFF2AF5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  <a:ea typeface="黑体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/>
          </p:nvPr>
        </p:nvSpPr>
        <p:spPr>
          <a:xfrm>
            <a:off x="390600" y="2276280"/>
            <a:ext cx="8477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吉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巴雷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感染性多发性神经根神经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uillain-Barre syndrome, GB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小儿最常见的急性周围神经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394920" y="2420640"/>
            <a:ext cx="838188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因尚未完全明确。多数学者认为本病是免疫介导的迟发型超敏反应，感染是启动免疫反应的首要因素。最主要的感染因子为空肠弯曲菌、巨细胞病毒、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B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、带状疱疹病毒、肺炎支原体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2" name="内容占位符 2"/>
          <p:cNvSpPr/>
          <p:nvPr/>
        </p:nvSpPr>
        <p:spPr>
          <a:xfrm>
            <a:off x="500040" y="1844640"/>
            <a:ext cx="811044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出生时已具备功能，重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构造已接近成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髓末端：新生儿期位于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下缘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上移至第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腰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4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CACD-B991-4183-9D5B-EB03A2D2262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6" name="矩形 1"/>
          <p:cNvSpPr/>
          <p:nvPr/>
        </p:nvSpPr>
        <p:spPr>
          <a:xfrm>
            <a:off x="668160" y="2349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病毒感染、创伤、手术等刺激因素改变机体的免疫系统，导致淋巴细胞对髓鞘敏感，出现髓鞘损伤和神经脱髓鞘的现象，运动、感觉神经冲动传导速度减慢甚至停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运动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进行性肌无力是最突出的表现。多数患儿自肢体远端开始呈上行性麻痹进展，急性起病者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4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即可出现严重的肢体瘫痪以及呼吸机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脑神经麻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表现为对称或不对称的脑神经麻痹，以面神经受损引起的面瘫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/>
          </p:nvPr>
        </p:nvSpPr>
        <p:spPr>
          <a:xfrm>
            <a:off x="4906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感觉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早期即有肌肉疼痛，下肢远端出现不同程度的感觉异常和麻木感。年长儿可表现为手套或袜套状分布感觉减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自主神经功能障碍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较轻微，可出现视物不清，多汗、面色潮红、腹痛、便秘，一过性尿潴留，血压轻度升高或心率失常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3F62-F3E5-4D2B-A0B2-59F4CE8D21A5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检查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蛋白细胞分离现象，是本病特征之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肌电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经系统检查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肌力评定、运动能力和深浅感觉等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994" name="Picture 4" descr="图片19"/>
          <p:cNvPicPr/>
          <p:nvPr/>
        </p:nvPicPr>
        <p:blipFill>
          <a:blip r:embed="rId1"/>
          <a:stretch/>
        </p:blipFill>
        <p:spPr>
          <a:xfrm>
            <a:off x="6648480" y="4118040"/>
            <a:ext cx="2043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3D67-8FE9-4765-A6A4-40F0323ABAB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311040" y="136044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药物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疾病初期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）大剂量应用人血免疫球蛋白可明显延缓本病进展速度，减轻极期症状的严重程度，降低气管切开及机械通气的概率。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4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静脉注射，连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对症治疗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神经根水肿，可给予甘露醇或短期应用肾上腺皮质激素；积极治疗呼吸肌麻痹，严重病例应及时给予机械通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633B-A534-455E-923D-A25B23202BB2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询问患儿发病前有无病毒感染、创伤、手术等刺激因素，询问家庭居住的气候、环境条件，家族中有无类似病史的成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监测患儿肌力变化，注意呼吸及运动感觉功能，了解实验室检查结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家长对该病的预后、疾病的护理方法、药物的副作用等知识的认识程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1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69E6-7C68-476A-B646-08152D3F4F93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3" name="PlaceHolder 2"/>
          <p:cNvSpPr>
            <a:spLocks noGrp="1"/>
          </p:cNvSpPr>
          <p:nvPr>
            <p:ph/>
          </p:nvPr>
        </p:nvSpPr>
        <p:spPr>
          <a:xfrm>
            <a:off x="192240" y="1989000"/>
            <a:ext cx="87408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躯体活动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感觉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低效性呼吸型态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呼吸肌瘫痪、咳嗽反射消失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营养失调：低于机体需要量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吞咽困难影响进食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皮肤完整性受损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肢体瘫痪、长期卧床、感觉异常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32F9-1E69-40E5-BF56-C51239B7C2F2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6" name="AutoShape 53"/>
          <p:cNvSpPr/>
          <p:nvPr/>
        </p:nvSpPr>
        <p:spPr>
          <a:xfrm>
            <a:off x="4124160" y="19890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7" name="圆角矩形 54"/>
          <p:cNvSpPr/>
          <p:nvPr/>
        </p:nvSpPr>
        <p:spPr>
          <a:xfrm>
            <a:off x="4670280" y="1400040"/>
            <a:ext cx="4245120" cy="1849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肢体于功能位置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帮助患儿做肢体被动运动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恢复期鼓励、指导、督促患儿自主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08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09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10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1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2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13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4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15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16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17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18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19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0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1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2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23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24" name="Group 4"/>
          <p:cNvGrpSpPr/>
          <p:nvPr/>
        </p:nvGrpSpPr>
        <p:grpSpPr>
          <a:xfrm>
            <a:off x="196920" y="1581120"/>
            <a:ext cx="3392640" cy="748800"/>
            <a:chOff x="196920" y="1581120"/>
            <a:chExt cx="3392640" cy="748800"/>
          </a:xfrm>
        </p:grpSpPr>
        <p:grpSp>
          <p:nvGrpSpPr>
            <p:cNvPr id="5025" name="Group 5"/>
            <p:cNvGrpSpPr/>
            <p:nvPr/>
          </p:nvGrpSpPr>
          <p:grpSpPr>
            <a:xfrm>
              <a:off x="196920" y="1581120"/>
              <a:ext cx="792720" cy="748800"/>
              <a:chOff x="196920" y="1581120"/>
              <a:chExt cx="792720" cy="748800"/>
            </a:xfrm>
          </p:grpSpPr>
          <p:sp>
            <p:nvSpPr>
              <p:cNvPr id="5026" name="AutoShape 6"/>
              <p:cNvSpPr/>
              <p:nvPr/>
            </p:nvSpPr>
            <p:spPr>
              <a:xfrm>
                <a:off x="203400" y="15937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7" name="AutoShape 7"/>
              <p:cNvSpPr/>
              <p:nvPr/>
            </p:nvSpPr>
            <p:spPr>
              <a:xfrm>
                <a:off x="196920" y="158112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8" name="AutoShape 8"/>
              <p:cNvSpPr/>
              <p:nvPr/>
            </p:nvSpPr>
            <p:spPr>
              <a:xfrm>
                <a:off x="243000" y="162540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29" name="Line 9"/>
            <p:cNvSpPr/>
            <p:nvPr/>
          </p:nvSpPr>
          <p:spPr>
            <a:xfrm>
              <a:off x="796680" y="222984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0" name="Text Box 10"/>
            <p:cNvSpPr/>
            <p:nvPr/>
          </p:nvSpPr>
          <p:spPr>
            <a:xfrm>
              <a:off x="1702080" y="16437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1" name="Text Box 11"/>
            <p:cNvSpPr/>
            <p:nvPr/>
          </p:nvSpPr>
          <p:spPr>
            <a:xfrm>
              <a:off x="381960" y="163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32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33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34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5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6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37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8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39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0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1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42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43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44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5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46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7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48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49" name="矩形 55"/>
          <p:cNvSpPr/>
          <p:nvPr/>
        </p:nvSpPr>
        <p:spPr>
          <a:xfrm>
            <a:off x="1111320" y="4370400"/>
            <a:ext cx="52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31FB-AFA6-46FA-982B-B44A5F51CFBB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2" name="AutoShape 53"/>
          <p:cNvSpPr/>
          <p:nvPr/>
        </p:nvSpPr>
        <p:spPr>
          <a:xfrm>
            <a:off x="3624120" y="2797200"/>
            <a:ext cx="489240" cy="46080"/>
          </a:xfrm>
          <a:prstGeom prst="rightArrow">
            <a:avLst>
              <a:gd name="adj1" fmla="val 50000"/>
              <a:gd name="adj2" fmla="val 22074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3" name="圆角矩形 54"/>
          <p:cNvSpPr/>
          <p:nvPr/>
        </p:nvSpPr>
        <p:spPr>
          <a:xfrm>
            <a:off x="4356000" y="1539720"/>
            <a:ext cx="4559400" cy="24768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室内空气新鲜，温、湿度适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保持呼吸道通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呼吸困难者给予低流量氧气吸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54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055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056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7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58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59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0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1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62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063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064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5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66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67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8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9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0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071" name="Group 5"/>
            <p:cNvGrpSpPr/>
            <p:nvPr/>
          </p:nvGrpSpPr>
          <p:grpSpPr>
            <a:xfrm>
              <a:off x="196920" y="1565280"/>
              <a:ext cx="792360" cy="748800"/>
              <a:chOff x="196920" y="1565280"/>
              <a:chExt cx="792360" cy="748800"/>
            </a:xfrm>
          </p:grpSpPr>
          <p:sp>
            <p:nvSpPr>
              <p:cNvPr id="5072" name="AutoShape 6"/>
              <p:cNvSpPr/>
              <p:nvPr/>
            </p:nvSpPr>
            <p:spPr>
              <a:xfrm>
                <a:off x="203400" y="157788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3" name="AutoShape 7"/>
              <p:cNvSpPr/>
              <p:nvPr/>
            </p:nvSpPr>
            <p:spPr>
              <a:xfrm>
                <a:off x="196920" y="15652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74" name="AutoShape 8"/>
              <p:cNvSpPr/>
              <p:nvPr/>
            </p:nvSpPr>
            <p:spPr>
              <a:xfrm>
                <a:off x="243000" y="1609560"/>
                <a:ext cx="689760" cy="647280"/>
              </a:xfrm>
              <a:prstGeom prst="hexagon">
                <a:avLst>
                  <a:gd name="adj" fmla="val 2668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75" name="Line 9"/>
            <p:cNvSpPr/>
            <p:nvPr/>
          </p:nvSpPr>
          <p:spPr>
            <a:xfrm>
              <a:off x="796320" y="2214000"/>
              <a:ext cx="23983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6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77" name="Text Box 11"/>
            <p:cNvSpPr/>
            <p:nvPr/>
          </p:nvSpPr>
          <p:spPr>
            <a:xfrm>
              <a:off x="38160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8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079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080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1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82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83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4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85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86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7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088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089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090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1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2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93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94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095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8001-D0ED-475D-847D-C64BFC678907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8" name="AutoShape 53"/>
          <p:cNvSpPr/>
          <p:nvPr/>
        </p:nvSpPr>
        <p:spPr>
          <a:xfrm>
            <a:off x="3557520" y="369252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9" name="圆角矩形 54"/>
          <p:cNvSpPr/>
          <p:nvPr/>
        </p:nvSpPr>
        <p:spPr>
          <a:xfrm>
            <a:off x="4214880" y="2403360"/>
            <a:ext cx="4929120" cy="2803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供高蛋白、高能量、高维生素易消化饮食，少量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00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01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02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3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4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05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6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07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08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09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10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1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2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13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4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15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16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17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18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9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0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1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2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23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24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25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26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7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28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9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0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1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32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3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34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35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36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7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38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39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0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41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855" name="图片 5" descr="5.jpg"/>
          <p:cNvPicPr/>
          <p:nvPr/>
        </p:nvPicPr>
        <p:blipFill>
          <a:blip r:embed="rId1"/>
          <a:stretch/>
        </p:blipFill>
        <p:spPr>
          <a:xfrm>
            <a:off x="1227240" y="1488960"/>
            <a:ext cx="676584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E9A-E4A2-4120-B8CD-2E581805F16E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4" name="AutoShape 53"/>
          <p:cNvSpPr/>
          <p:nvPr/>
        </p:nvSpPr>
        <p:spPr>
          <a:xfrm>
            <a:off x="3557520" y="5580000"/>
            <a:ext cx="490680" cy="46080"/>
          </a:xfrm>
          <a:prstGeom prst="rightArrow">
            <a:avLst>
              <a:gd name="adj1" fmla="val 50000"/>
              <a:gd name="adj2" fmla="val 22139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760" bIns="-23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5" name="圆角矩形 54"/>
          <p:cNvSpPr/>
          <p:nvPr/>
        </p:nvSpPr>
        <p:spPr>
          <a:xfrm>
            <a:off x="4284720" y="4103640"/>
            <a:ext cx="4324320" cy="2338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指导预防压疮。教会家长帮助患儿进行训练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恢复期患儿坚持瘫痪肢体的主动锻炼，定期进行门诊复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46" name="Group 28"/>
          <p:cNvGrpSpPr/>
          <p:nvPr/>
        </p:nvGrpSpPr>
        <p:grpSpPr>
          <a:xfrm>
            <a:off x="174600" y="4356000"/>
            <a:ext cx="2997000" cy="749160"/>
            <a:chOff x="174600" y="4356000"/>
            <a:chExt cx="2997000" cy="749160"/>
          </a:xfrm>
        </p:grpSpPr>
        <p:grpSp>
          <p:nvGrpSpPr>
            <p:cNvPr id="5147" name="Group 29"/>
            <p:cNvGrpSpPr/>
            <p:nvPr/>
          </p:nvGrpSpPr>
          <p:grpSpPr>
            <a:xfrm>
              <a:off x="174600" y="4356000"/>
              <a:ext cx="792360" cy="749160"/>
              <a:chOff x="174600" y="4356000"/>
              <a:chExt cx="792360" cy="749160"/>
            </a:xfrm>
          </p:grpSpPr>
          <p:sp>
            <p:nvSpPr>
              <p:cNvPr id="5148" name="AutoShape 30"/>
              <p:cNvSpPr/>
              <p:nvPr/>
            </p:nvSpPr>
            <p:spPr>
              <a:xfrm>
                <a:off x="181080" y="4368600"/>
                <a:ext cx="785880" cy="736560"/>
              </a:xfrm>
              <a:prstGeom prst="hexagon">
                <a:avLst>
                  <a:gd name="adj" fmla="val 266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49" name="AutoShape 31"/>
              <p:cNvSpPr/>
              <p:nvPr/>
            </p:nvSpPr>
            <p:spPr>
              <a:xfrm>
                <a:off x="174600" y="43560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0" name="AutoShape 32"/>
              <p:cNvSpPr/>
              <p:nvPr/>
            </p:nvSpPr>
            <p:spPr>
              <a:xfrm>
                <a:off x="220680" y="4401720"/>
                <a:ext cx="691920" cy="646200"/>
              </a:xfrm>
              <a:prstGeom prst="hexagon">
                <a:avLst>
                  <a:gd name="adj" fmla="val 2665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1" name="Line 33"/>
            <p:cNvSpPr/>
            <p:nvPr/>
          </p:nvSpPr>
          <p:spPr>
            <a:xfrm>
              <a:off x="774000" y="5005080"/>
              <a:ext cx="239760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2" name="Text Box 34"/>
            <p:cNvSpPr/>
            <p:nvPr/>
          </p:nvSpPr>
          <p:spPr>
            <a:xfrm>
              <a:off x="1263240" y="4412880"/>
              <a:ext cx="191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53" name="Text Box 35"/>
            <p:cNvSpPr/>
            <p:nvPr/>
          </p:nvSpPr>
          <p:spPr>
            <a:xfrm>
              <a:off x="359280" y="4412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4" name="Group 36"/>
          <p:cNvGrpSpPr/>
          <p:nvPr/>
        </p:nvGrpSpPr>
        <p:grpSpPr>
          <a:xfrm>
            <a:off x="185760" y="5307120"/>
            <a:ext cx="2996640" cy="748800"/>
            <a:chOff x="185760" y="5307120"/>
            <a:chExt cx="2996640" cy="748800"/>
          </a:xfrm>
        </p:grpSpPr>
        <p:grpSp>
          <p:nvGrpSpPr>
            <p:cNvPr id="5155" name="Group 37"/>
            <p:cNvGrpSpPr/>
            <p:nvPr/>
          </p:nvGrpSpPr>
          <p:grpSpPr>
            <a:xfrm>
              <a:off x="185760" y="5307120"/>
              <a:ext cx="792360" cy="748800"/>
              <a:chOff x="185760" y="5307120"/>
              <a:chExt cx="792360" cy="748800"/>
            </a:xfrm>
          </p:grpSpPr>
          <p:sp>
            <p:nvSpPr>
              <p:cNvPr id="5156" name="AutoShape 38"/>
              <p:cNvSpPr/>
              <p:nvPr/>
            </p:nvSpPr>
            <p:spPr>
              <a:xfrm>
                <a:off x="192240" y="5319720"/>
                <a:ext cx="785880" cy="736200"/>
              </a:xfrm>
              <a:prstGeom prst="hexagon">
                <a:avLst>
                  <a:gd name="adj" fmla="val 2668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7" name="AutoShape 39"/>
              <p:cNvSpPr/>
              <p:nvPr/>
            </p:nvSpPr>
            <p:spPr>
              <a:xfrm>
                <a:off x="185760" y="530712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8" name="AutoShape 40"/>
              <p:cNvSpPr/>
              <p:nvPr/>
            </p:nvSpPr>
            <p:spPr>
              <a:xfrm>
                <a:off x="231840" y="5352840"/>
                <a:ext cx="691920" cy="645840"/>
              </a:xfrm>
              <a:prstGeom prst="hexagon">
                <a:avLst>
                  <a:gd name="adj" fmla="val 2667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59" name="Line 41"/>
            <p:cNvSpPr/>
            <p:nvPr/>
          </p:nvSpPr>
          <p:spPr>
            <a:xfrm>
              <a:off x="785160" y="5955840"/>
              <a:ext cx="23972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0" name="Text Box 42"/>
            <p:cNvSpPr/>
            <p:nvPr/>
          </p:nvSpPr>
          <p:spPr>
            <a:xfrm>
              <a:off x="1274400" y="5387760"/>
              <a:ext cx="19116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1" name="Text Box 43"/>
            <p:cNvSpPr/>
            <p:nvPr/>
          </p:nvSpPr>
          <p:spPr>
            <a:xfrm>
              <a:off x="370440" y="5364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62" name="Group 4"/>
          <p:cNvGrpSpPr/>
          <p:nvPr/>
        </p:nvGrpSpPr>
        <p:grpSpPr>
          <a:xfrm>
            <a:off x="196920" y="1565280"/>
            <a:ext cx="3392640" cy="748800"/>
            <a:chOff x="196920" y="1565280"/>
            <a:chExt cx="3392640" cy="748800"/>
          </a:xfrm>
        </p:grpSpPr>
        <p:grpSp>
          <p:nvGrpSpPr>
            <p:cNvPr id="5163" name="Group 5"/>
            <p:cNvGrpSpPr/>
            <p:nvPr/>
          </p:nvGrpSpPr>
          <p:grpSpPr>
            <a:xfrm>
              <a:off x="196920" y="1565280"/>
              <a:ext cx="792720" cy="748800"/>
              <a:chOff x="196920" y="1565280"/>
              <a:chExt cx="792720" cy="748800"/>
            </a:xfrm>
          </p:grpSpPr>
          <p:sp>
            <p:nvSpPr>
              <p:cNvPr id="5164" name="AutoShape 6"/>
              <p:cNvSpPr/>
              <p:nvPr/>
            </p:nvSpPr>
            <p:spPr>
              <a:xfrm>
                <a:off x="203400" y="1577880"/>
                <a:ext cx="786240" cy="736200"/>
              </a:xfrm>
              <a:prstGeom prst="hexagon">
                <a:avLst>
                  <a:gd name="adj" fmla="val 26699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5" name="AutoShape 7"/>
              <p:cNvSpPr/>
              <p:nvPr/>
            </p:nvSpPr>
            <p:spPr>
              <a:xfrm>
                <a:off x="196920" y="1565280"/>
                <a:ext cx="786600" cy="73620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6" name="AutoShape 8"/>
              <p:cNvSpPr/>
              <p:nvPr/>
            </p:nvSpPr>
            <p:spPr>
              <a:xfrm>
                <a:off x="243000" y="1609560"/>
                <a:ext cx="690120" cy="647280"/>
              </a:xfrm>
              <a:prstGeom prst="hexagon">
                <a:avLst>
                  <a:gd name="adj" fmla="val 2669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67" name="Line 9"/>
            <p:cNvSpPr/>
            <p:nvPr/>
          </p:nvSpPr>
          <p:spPr>
            <a:xfrm>
              <a:off x="796680" y="2214000"/>
              <a:ext cx="239904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8" name="Text Box 10"/>
            <p:cNvSpPr/>
            <p:nvPr/>
          </p:nvSpPr>
          <p:spPr>
            <a:xfrm>
              <a:off x="1702080" y="16279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促进机体功能恢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69" name="Text Box 11"/>
            <p:cNvSpPr/>
            <p:nvPr/>
          </p:nvSpPr>
          <p:spPr>
            <a:xfrm>
              <a:off x="381960" y="162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70" name="Group 20"/>
          <p:cNvGrpSpPr/>
          <p:nvPr/>
        </p:nvGrpSpPr>
        <p:grpSpPr>
          <a:xfrm>
            <a:off x="190440" y="2562120"/>
            <a:ext cx="2998440" cy="1599840"/>
            <a:chOff x="190440" y="2562120"/>
            <a:chExt cx="2998440" cy="1599840"/>
          </a:xfrm>
        </p:grpSpPr>
        <p:grpSp>
          <p:nvGrpSpPr>
            <p:cNvPr id="5171" name="Group 21"/>
            <p:cNvGrpSpPr/>
            <p:nvPr/>
          </p:nvGrpSpPr>
          <p:grpSpPr>
            <a:xfrm>
              <a:off x="190440" y="3412800"/>
              <a:ext cx="792720" cy="749160"/>
              <a:chOff x="190440" y="3412800"/>
              <a:chExt cx="792720" cy="749160"/>
            </a:xfrm>
          </p:grpSpPr>
          <p:sp>
            <p:nvSpPr>
              <p:cNvPr id="5172" name="AutoShape 22"/>
              <p:cNvSpPr/>
              <p:nvPr/>
            </p:nvSpPr>
            <p:spPr>
              <a:xfrm>
                <a:off x="196920" y="3425400"/>
                <a:ext cx="786240" cy="736560"/>
              </a:xfrm>
              <a:prstGeom prst="hexagon">
                <a:avLst>
                  <a:gd name="adj" fmla="val 2668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3" name="AutoShape 23"/>
              <p:cNvSpPr/>
              <p:nvPr/>
            </p:nvSpPr>
            <p:spPr>
              <a:xfrm>
                <a:off x="190440" y="341280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74" name="AutoShape 24"/>
              <p:cNvSpPr/>
              <p:nvPr/>
            </p:nvSpPr>
            <p:spPr>
              <a:xfrm>
                <a:off x="236520" y="3458520"/>
                <a:ext cx="690120" cy="646200"/>
              </a:xfrm>
              <a:prstGeom prst="hexagon">
                <a:avLst>
                  <a:gd name="adj" fmla="val 2666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5" name="Line 25"/>
            <p:cNvSpPr/>
            <p:nvPr/>
          </p:nvSpPr>
          <p:spPr>
            <a:xfrm>
              <a:off x="790200" y="4061880"/>
              <a:ext cx="239868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6" name="Text Box 26"/>
            <p:cNvSpPr/>
            <p:nvPr/>
          </p:nvSpPr>
          <p:spPr>
            <a:xfrm>
              <a:off x="1567800" y="256212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改善呼吸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77" name="Text Box 27"/>
            <p:cNvSpPr/>
            <p:nvPr/>
          </p:nvSpPr>
          <p:spPr>
            <a:xfrm>
              <a:off x="375120" y="34700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78" name="矩形 56"/>
          <p:cNvSpPr/>
          <p:nvPr/>
        </p:nvSpPr>
        <p:spPr>
          <a:xfrm>
            <a:off x="1116000" y="5307120"/>
            <a:ext cx="382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79" name="矩形 96"/>
          <p:cNvSpPr/>
          <p:nvPr/>
        </p:nvSpPr>
        <p:spPr>
          <a:xfrm>
            <a:off x="1116000" y="341316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维持足够营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180" name="Group 12"/>
          <p:cNvGrpSpPr/>
          <p:nvPr/>
        </p:nvGrpSpPr>
        <p:grpSpPr>
          <a:xfrm>
            <a:off x="233280" y="2492280"/>
            <a:ext cx="3000240" cy="749160"/>
            <a:chOff x="233280" y="2492280"/>
            <a:chExt cx="3000240" cy="749160"/>
          </a:xfrm>
        </p:grpSpPr>
        <p:grpSp>
          <p:nvGrpSpPr>
            <p:cNvPr id="5181" name="Group 13"/>
            <p:cNvGrpSpPr/>
            <p:nvPr/>
          </p:nvGrpSpPr>
          <p:grpSpPr>
            <a:xfrm>
              <a:off x="233280" y="2492280"/>
              <a:ext cx="793080" cy="749160"/>
              <a:chOff x="233280" y="2492280"/>
              <a:chExt cx="793080" cy="749160"/>
            </a:xfrm>
          </p:grpSpPr>
          <p:sp>
            <p:nvSpPr>
              <p:cNvPr id="5182" name="AutoShape 14"/>
              <p:cNvSpPr/>
              <p:nvPr/>
            </p:nvSpPr>
            <p:spPr>
              <a:xfrm>
                <a:off x="239760" y="2504880"/>
                <a:ext cx="786600" cy="736560"/>
              </a:xfrm>
              <a:prstGeom prst="hexagon">
                <a:avLst>
                  <a:gd name="adj" fmla="val 266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3" name="AutoShape 15"/>
              <p:cNvSpPr/>
              <p:nvPr/>
            </p:nvSpPr>
            <p:spPr>
              <a:xfrm>
                <a:off x="233280" y="2492280"/>
                <a:ext cx="786960" cy="736560"/>
              </a:xfrm>
              <a:prstGeom prst="hexagon">
                <a:avLst>
                  <a:gd name="adj" fmla="val 2671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4" name="AutoShape 16"/>
              <p:cNvSpPr/>
              <p:nvPr/>
            </p:nvSpPr>
            <p:spPr>
              <a:xfrm>
                <a:off x="279360" y="2538000"/>
                <a:ext cx="690120" cy="646200"/>
              </a:xfrm>
              <a:prstGeom prst="hexagon">
                <a:avLst>
                  <a:gd name="adj" fmla="val 2668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85" name="Line 17"/>
            <p:cNvSpPr/>
            <p:nvPr/>
          </p:nvSpPr>
          <p:spPr>
            <a:xfrm>
              <a:off x="833400" y="3141360"/>
              <a:ext cx="2400120" cy="428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6" name="Text Box 19"/>
            <p:cNvSpPr/>
            <p:nvPr/>
          </p:nvSpPr>
          <p:spPr>
            <a:xfrm>
              <a:off x="418320" y="254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187" name="矩形 55"/>
          <p:cNvSpPr/>
          <p:nvPr/>
        </p:nvSpPr>
        <p:spPr>
          <a:xfrm>
            <a:off x="1111320" y="4370400"/>
            <a:ext cx="41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189" name=""/>
          <p:cNvSpPr txBox="1"/>
          <p:nvPr/>
        </p:nvSpPr>
        <p:spPr>
          <a:xfrm>
            <a:off x="811080" y="2781000"/>
            <a:ext cx="763272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六节　注意力缺陷多动症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C9D-BB32-4B9E-A9BD-817A16138E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力缺陷多动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390600" y="1989000"/>
            <a:ext cx="8477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称轻微脑功能障碍综合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inimal brain dysfunction syndrome, M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以与年龄不相称的多动、注意力不集中、任性、易冲动为主要特征的行为障碍，是一种常见的小儿行为异常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533160" y="2492280"/>
            <a:ext cx="83818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病由多种因素引起。有研究证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明显的遗传倾向；此外，与各种原因导致的脑损伤有关，如妊娠及分娩期脑轻微损伤、神经发育延迟或损害等；不良社会和家庭环境等也可能是致病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8308-B964-4416-A5A3-4BCFE9E0C2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4140000" y="299520"/>
            <a:ext cx="4825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发病机制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7" name="矩形 1"/>
          <p:cNvSpPr/>
          <p:nvPr/>
        </p:nvSpPr>
        <p:spPr>
          <a:xfrm>
            <a:off x="66816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4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多肽性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DHD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有关，它主要分布在额叶，它的异常提示额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元功能低下引发注意障碍。分子生物学研究多巴胺代谢异常或敏感性增高，其他研究多集中在丘脑、网状激活系统和前中脑束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注意缺陷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儿的表现欲年龄明显不相称，注意集中困难和注意持续时间短暂，是本症的核心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活动过多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为患者经常显得不安宁，小动作多，不能安静坐着，在座位上扭来扭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行为冲动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冲动，在信息不充分的情况下快速地做出行为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42472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学习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神经系统发育异常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的精细动作、协调运动、空间位置觉等发育较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品行障碍：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行障碍表现为攻击性行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A2EA-49C9-4C55-8BEA-B92E3F1DF6D7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351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graphicFrame>
        <p:nvGraphicFramePr>
          <p:cNvPr id="5205" name=""/>
          <p:cNvGraphicFramePr/>
          <p:nvPr/>
        </p:nvGraphicFramePr>
        <p:xfrm>
          <a:off x="287280" y="1628640"/>
          <a:ext cx="8567640" cy="4646880"/>
        </p:xfrm>
        <a:graphic>
          <a:graphicData uri="http://schemas.openxmlformats.org/drawingml/2006/table">
            <a:tbl>
              <a:tblPr/>
              <a:tblGrid>
                <a:gridCol w="4554720"/>
                <a:gridCol w="4012920"/>
              </a:tblGrid>
              <a:tr h="454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注意力缺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易受外来影响而激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教室常常离开座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无监督时难以有始有终地完成任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未加思考即开始行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持久性集中注意力（作业、游戏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集体活动中常不按次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听不进别人说什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在问题尚未说完时即抢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20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经常丢失生活和学习用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难于安静地玩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学校课堂注意力分散、成绩不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做出过分的行动如爬高、乱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能组织达到一定目的的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与危险活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事未完又做另一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坐立不安、动手动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0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常干扰别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说话过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8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06" name="矩形 2"/>
          <p:cNvSpPr/>
          <p:nvPr/>
        </p:nvSpPr>
        <p:spPr>
          <a:xfrm>
            <a:off x="2925360" y="10922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H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诊断项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EADA-93A2-44C9-B9C3-3E880855448A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375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长、教师、医务人员密切配合，尽可能寻找并去除致病诱因，减轻患儿精神负担，减少不良刺激，发现优点及时表扬，增强其自信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700"/>
              </a:spcBef>
              <a:buClr>
                <a:srgbClr val="ffc000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用药护理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需要药物治疗的患儿应指导用药方法，并注意对药物的疗效及副作用进行监测。以精神兴奋剂最为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3334-3D2D-4351-938A-BD6FA1FF1A9C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1" name="PlaceHolder 1"/>
          <p:cNvSpPr>
            <a:spLocks noGrp="1"/>
          </p:cNvSpPr>
          <p:nvPr>
            <p:ph type="title"/>
          </p:nvPr>
        </p:nvSpPr>
        <p:spPr>
          <a:xfrm>
            <a:off x="826560" y="3790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2" name="PlaceHolder 2"/>
          <p:cNvSpPr>
            <a:spLocks noGrp="1"/>
          </p:cNvSpPr>
          <p:nvPr>
            <p:ph/>
          </p:nvPr>
        </p:nvSpPr>
        <p:spPr>
          <a:xfrm>
            <a:off x="151920" y="1628280"/>
            <a:ext cx="875196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史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仔细询问产前、产时及产后是否存在导致轻度脑损害的因素，评估患儿生活及居住环境，了解患儿父母的行为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身体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障碍、多动、情绪冲动、学习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黑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心理、社会状况</a:t>
            </a:r>
            <a:r>
              <a:rPr b="1" lang="en-US" sz="2800" spc="-1" strike="noStrike">
                <a:solidFill>
                  <a:srgbClr val="00b05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应注意评估患儿及家长的心理状态。家长及周围人群往往对患儿产生厌烦心理，加上周围人群的歧视，会导致患儿失去自信心，产生自悲心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857" name=""/>
          <p:cNvSpPr txBox="1"/>
          <p:nvPr/>
        </p:nvSpPr>
        <p:spPr>
          <a:xfrm>
            <a:off x="395280" y="1699920"/>
            <a:ext cx="83520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脊液及正常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儿脑脊液成分与成人相同，为无色碱性液体，内含蛋白质、糖、淋巴细胞和盐类物质，其比重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00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小儿脑脊液随着年龄的增长和脑室的发育逐渐增加，新生儿脑积液的量少、压力低，故抽取脑脊液较困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3" name="灯片编号占位符 5"/>
          <p:cNvSpPr/>
          <p:nvPr/>
        </p:nvSpPr>
        <p:spPr>
          <a:xfrm>
            <a:off x="3995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6153-6D00-4821-A1FE-615677E46B0D}" type="slidenum">
              <a:rPr b="0" lang="en-US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5" name="PlaceHolder 2"/>
          <p:cNvSpPr>
            <a:spLocks noGrp="1"/>
          </p:cNvSpPr>
          <p:nvPr>
            <p:ph/>
          </p:nvPr>
        </p:nvSpPr>
        <p:spPr>
          <a:xfrm>
            <a:off x="0" y="1989000"/>
            <a:ext cx="90597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思维紊乱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注意力不集中、活动过度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焦虑（家长）</a:t>
            </a:r>
            <a:r>
              <a:rPr b="0" lang="zh-CN" sz="2400" spc="-1" strike="noStrike">
                <a:solidFill>
                  <a:srgbClr val="00b05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常有攻击破坏行为和学习成绩落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社会交往障碍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任性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有外伤的危险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患儿多动、冲动、行为过激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A117-B766-466E-9B66-AE49D1644DCC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8" name="矩形 1"/>
          <p:cNvSpPr/>
          <p:nvPr/>
        </p:nvSpPr>
        <p:spPr>
          <a:xfrm>
            <a:off x="264960" y="1219320"/>
            <a:ext cx="8461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常规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鼓励其参与文体活动，以释放多余精力并训练其注意力，同时增强其自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患儿制定简单可行的生活制度，循序渐进地培养其注意力和控制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针对其特点合理安排课程和学习计划，改进学习方法，提高学习成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指导患儿及家长采用专业的行为矫正治疗，矫正患儿的多动和冲动，提高其学习能力和社会交往能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53A8-D51C-4A72-A30A-1D6EBC0C8A33}" type="slidenum">
              <a:rPr b="0" lang="zh-CN" sz="1400" spc="-1" strike="noStrike">
                <a:solidFill>
                  <a:srgbClr val="046ca6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1" name="矩形 1"/>
          <p:cNvSpPr/>
          <p:nvPr/>
        </p:nvSpPr>
        <p:spPr>
          <a:xfrm>
            <a:off x="407880" y="1557360"/>
            <a:ext cx="848196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50000"/>
              </a:lnSpc>
              <a:buClr>
                <a:srgbClr val="00b05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黑体"/>
                <a:ea typeface="黑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向患儿及家长介绍本病的相关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解释药物治疗同时加强教育及心理护理的重要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同情、关心爱护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有不良习惯和学习困难的患儿，不断增强信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于患儿的一些攻击性和破坏性行为要严加制止，但应注意方式方法，保护患儿的自尊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家庭、学校、社会应协调一致，以取得最佳的教育效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6:56:19Z</dcterms:modified>
  <cp:revision>2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